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  <p:sldId id="266" r:id="rId29"/>
    <p:sldId id="267" r:id="rId30"/>
    <p:sldId id="268" r:id="rId31"/>
    <p:sldId id="269" r:id="rId32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slide" Target="slides/slide11.xml"/><Relationship Id="rId30" Type="http://schemas.openxmlformats.org/officeDocument/2006/relationships/slide" Target="slides/slide12.xml"/><Relationship Id="rId31" Type="http://schemas.openxmlformats.org/officeDocument/2006/relationships/slide" Target="slides/slide13.xml"/><Relationship Id="rId32" Type="http://schemas.openxmlformats.org/officeDocument/2006/relationships/slide" Target="slides/slide14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29DDC-B26F-4298-B186-18217A40E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134D9-429A-4334-AD02-47638075B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71B461-556D-488B-88A3-5EA8A2364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6BCAAB-85F1-40C3-9EBC-B6D0A6E9D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57FC35-DD6F-4465-AE8A-8C48AB3F9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CBFB10-70EB-4A17-A21D-C2ADE2028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6BBB8C-8860-4D93-9D33-82AF9808E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A35437-19E2-44FA-84BE-71DEF9B06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428A9F-2844-40B2-89EF-55264A6AD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7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2AB7B1-19DF-4940-BB14-186B62CEA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3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4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B5636B-44FB-4F73-9799-AD89F317C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6A1C79-D555-48AD-A08E-7471E0409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EBA67-06DE-4363-8297-54CA46697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05E4F4-1FEA-4987-8B9F-6D41759B3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C73BAC-D043-4345-B213-C63A39AC7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0113B3-DBF9-42F6-97A7-589DF52C7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4B2559-0867-44B3-A328-238FA3390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FBA7C9-FCA0-47E2-A516-696AE9E68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FAE445-451E-4F86-94D3-5D42D47B3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8F6F5F-E47E-4612-99A7-6AAB4A36A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EA97DE-663C-46CD-8DD4-01ACBCE24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BF8292-7C11-44D1-A6F9-6AEF23C06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12C77F-CAF9-4C82-B5B3-475DE3151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6E45D-6C12-40E1-8340-0008E63A0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B94B79-6C84-4770-81E4-58107093C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701553-0536-417F-96D9-C1BE7C1DD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247CB6-D025-4677-BFC8-AF8307B78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C685B0-17DE-4BCF-AC2A-0914E5B07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07DA10-5823-4A8C-9144-357D06979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D3520E-3A40-4A37-AE6C-D24E7D115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11A42A-B9EF-431F-860D-0D7F4E4EA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1CC2C0-1360-4B73-8E8F-3DA7A4E6D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95F627-D338-439F-96BA-3C41688C2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F05E76-595E-429E-B8EE-5675BC77A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A77F9-A061-439C-8602-F7220CEE8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2D5F97-EF28-45AB-A87D-AB05A2DCE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5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B3AA4A-B31D-478A-BB0B-E60AF095A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0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1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2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D80119-B590-4CAE-A6A7-AC8F871BE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C0E649-FF25-49D5-800D-DB3A2D2B3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A7D99C-8270-4F2C-9C2B-9797BCD09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C49AA3-F541-4864-9637-2E973E7C1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B2DF4A-A2D4-4CAB-A388-DF297EEA1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BB3A5A-337C-4524-BB34-F63A591BE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D17C66-F11E-43D2-A08C-06B15BD7E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579335-F268-4C54-AFA5-A9CE6125F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8B3B3-6F3E-437E-BC45-B66BFEC45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6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3B64EA-B545-41F1-8E0D-650C51150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111047-3293-405A-AC27-FE57BE0D2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929EB5-3029-4235-8057-46F639A34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5CC0C3-3453-47F9-96D5-10D0FF7C6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49664B-963F-463A-AAC5-CF8769024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6FC90A4-EBA9-4319-AD33-385ACDEAD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1B6912C-39A7-4B24-A023-CD83ECE28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A130E4B-750D-404A-B327-BC4FF83A4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2D31914-F301-4DE7-97D9-FBEEDD44F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2A98A0A-7D7D-4D55-AEAB-A1B4E31A2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15986-1EE0-418F-AE78-E2C1C5A8B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B612C37-9EE6-4BFA-8838-86CAAC0CE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073BD29-B197-4C37-8108-2E77699F2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E3E5276-B56E-4BC1-8991-B3F453F35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2EC6A3A-73EA-4D5B-804C-BEB9DA08B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1F2CD44-3397-4E1E-A8CD-554C71212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5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5ED8BFB-DA31-4780-926B-69BD80FB7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0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1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2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1711F05-FEF6-4261-81EF-818152E75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F88FC74-AE39-46A3-AD6D-6BF9DE1B2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A754814-0CB4-4559-9C35-443E55617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16CA89E-1D9E-4B4C-BE06-105F71C8E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5B4D4-94DE-466B-9224-1A781CC27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CFDD4C3-8887-4731-A9EE-380464DF7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ABDA23A-D0A1-4B5F-8BC6-60F5B4F1A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FF04606-A6AC-4BB9-8EDB-684D764F8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A49CACD-E511-4500-BC15-F6935760F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5154F70-E892-421C-81C0-5DA031E3E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69537A9-A0AB-475C-8C09-85C56AF60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21DE485-51FF-42BD-A60E-618FA8F0C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DF94AE4-D56E-4D23-A778-DE6E1BC80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7F585E5-5354-46C4-9474-8F3591F52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E28E159-4F9F-415E-A8A3-639DC6305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88DA3-2DC4-4552-AD79-9E191091D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012B1F3-C3E8-4491-9777-C535FB458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8743C1D-78A8-4F99-95AC-7F7B90E24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8F5EED9-9690-40FC-9D22-B39F977AC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020AD39-C080-4C6C-B927-449AED53E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A00AAF8-3135-464F-83E1-9951497B7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E24CB83-4FF1-4174-B769-250052F05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3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B2BA7FE-CB7A-41BA-8C98-813B16941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35F739C-40A6-4A88-BAFB-E91B8AD72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0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3A8C62B-E2BA-4645-AB2F-14944ACCB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5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1741517-5625-4CC1-8C06-0627164A1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3583C-B667-4BE2-AA1B-8A0EC920D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8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9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10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11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12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36A8CE3-036E-4C34-B094-74CAE7522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307D008-3EB7-41AF-9EB9-B76A73A70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0241601-11F1-48E3-A11D-CF245DAD5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D94FF93-0FDD-47E2-9B95-8C91B638A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D0B55D9-8BAA-41AD-B708-811B7E88D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D67E88F-2FDA-4CEF-AF6B-2D088E05E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382C675-A124-4E39-868E-0C55A50D8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501EE17-5E1C-4E34-8655-368505537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343B09C-9C6D-4A80-8406-85BB6A445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9AA9B68-65A1-4EE6-8861-FE0C20BA8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87026-8BB7-4CAD-80E4-DD4B8C8DF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7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3EB7DF5-4E8A-445E-8E7C-5DB3FD9DA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7C18489-2E13-4C38-98E4-BC50EA084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8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8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8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8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8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36A0D3F-DE9B-4666-997C-B7882D4B6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316BE26-9606-433C-80AC-EDB8B3810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26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625B70C-DACE-42C8-A85E-E75BC795D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2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6B908AD-6E66-4D29-B98E-8E6045D6E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EAAE6CE-96D1-4CE3-9B3B-6E8B77086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0FC9803-A8B4-4229-8EED-2FE4E4C73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7BA42EB-6222-4410-AC46-3C6221A4F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8407C63-3467-4F3F-AF49-794E9837D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DD1D5-86C5-4850-9BCE-B191BB069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E87B1-539B-4D75-83A6-350613827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1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550FC1B-8EB0-4FF1-85E4-290A4B5F4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4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8C42CCC-BC56-449C-88A6-01C261103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8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4A7ED46-DC9C-48DB-ACDA-7AD657147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5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5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5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53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82CCE5C-6AD8-4FCE-A704-248552BD3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56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57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58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59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60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6051D03-DB47-420E-8DF9-E84A8F5C5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2052D-4415-43D4-A464-FCE5DCC53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B8CA0-95CD-45A5-B38F-3FA3633C4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BE4F0-DB50-4D14-9AC9-A1846C69F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ADBA3-BB1E-4EF9-B6A8-C19483C4D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8D0A29-5ACF-4305-A099-367A728A0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8D6FF9-6B67-4A88-8074-FC09775F1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F12B34-03EF-4A3F-9AF5-61D633CCF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C9325E-066E-4341-8B9D-0F56BC5DC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9F49D4-A142-40E2-94B4-88B9E8248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A3B13-2422-49BF-B6C6-E5052128F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CCAE37-4ADE-4653-8269-B5B4B7E0E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F6DF7E-41B6-462F-B755-5FA86CBB8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68F387-3952-4B86-BAAC-3C4A1E9FE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75F19B-AD82-46FA-9BCB-89C5A7930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805DC3-51BD-41CD-B596-323402D90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2D6A6E-DD54-49CF-B2F7-96F1ECC7A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A50965-076D-4F2D-B96C-8F382CE2B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EF8443-40D7-4D18-8334-35B6F10EC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57A9AB-9C34-4485-A6D4-E34CE62A4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8221E2-AE54-4C77-BC95-DC18F442D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54766-4913-478E-AB6E-07D4C8C1E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9A0EA3-BB70-4AD7-8E64-857391E19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40B792-27B9-4F66-B8AC-E6BD95B62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60B1B6-4BFE-427E-B47F-41F756E47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522F4F-22F7-4FC4-B885-875E2A561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C83A38-ADF5-4885-8EBD-DF1BE2ADF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4B6B3D-A0A8-4882-B72D-CD08DBCBE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D3EE2C-CDDA-4AE1-B67C-355A0509C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AE735E-B417-4481-9900-F8C171FBB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4E33FF-CD40-4C05-BBA0-D7E5494E9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A055AD-BF54-4CC8-8027-278F4762F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CE141-0CA5-4987-A20D-C8BB608FD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D42ABB-9F58-4B91-99D1-FFEE5B079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3362EB-CC44-4394-BD28-18386C4FA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EB6E7B-EF7C-4905-B1B2-856453798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EE2722-C969-4F7F-A873-67D5E25A8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43C1F0-6CC0-4FB4-8A78-E66C633F3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CBEDE3-1D9F-4485-AB39-D67CAD329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3AE75E-DF61-4E7F-9C63-28690DCEA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7F78A5-19F3-4AE6-9A96-F8EB99B82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B827AF-6008-4828-9742-7D10795BF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6D71B2-6F70-4C61-9734-F9A60626E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93ED5-1033-4A7C-BD3B-79B81613E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89DA35-4154-49B2-8802-B877AD5FF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632A68-BA18-46C8-8BE6-10497C7C8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ABC913-44C9-4B63-AA0B-D6BF5B1DB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2712E3-1E52-49F8-B1CC-BFBE36EA7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ABA053-5C9D-4F30-B890-4522E24ED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E99339-DC75-4C19-AE69-D25FA46A0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FF55A3-4301-48BC-8874-279186A14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56463B-C65F-456D-8339-8BC028D72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E2BC80-FEF5-4680-B0D3-EC09FCC12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038DC9-5F7E-4C55-BC45-DFF21DE9D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A1193-E204-4038-AB7B-537D9B0D6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A873BB-3641-47C2-B2AD-91E1A160D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88AC93-0F2E-4123-AD44-7937EA251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C50CEE-F680-4986-AB18-D3D20AA7D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57A9E2-75EB-456E-898D-71FBA39B0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2A32A9-C614-40B4-A3FF-BDD4AF060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FF721E-22DA-4BC8-86A5-4CD7EE3CC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6ABE6D-433F-4285-9DBF-4A74F7E2A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3DCF49-B8B9-44C7-A44D-2B25EF720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94F5D7-D261-456F-8044-C006799A3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5D8BD2-4EDC-4D5B-9BF1-AC1FA22CA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95B14-011A-419D-A8E3-CB8264DFF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74875E-AC72-469F-A4DA-3E61962DB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BCBB59-0BDA-4466-9C24-710FC3FFA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469999-50D4-4307-AD3E-C15E8FDF7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FFF766-AA68-496D-B270-1EFD83222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1E7826-E495-4BA2-BF4C-7E8E37C7D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F647DA-9298-4F41-800C-28C2D0706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5162C0-043C-482B-AECA-218F91329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AB3414-9072-4CA9-A4CA-451B0633C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E52FE3-6DB5-4425-87E4-B5A753EBC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4E0AD4-61EB-4743-91DC-099E72A39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ED25C-2874-4246-B04F-3623FCF39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28A07A-0C69-47AE-A956-A33BCCA56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33DA7E-D55C-4C0E-B20C-E6CD80BA3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7C58D1-5065-4DB7-99DD-8385D7614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93B2F9-12EC-4411-9DBC-8D48BB14F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17CE73-C5BA-4E07-AEB6-19E81D4D3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BBD140-84D0-4C16-A4D7-E2A8C8B1F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9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0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ACB375-7E44-4CDF-817B-4D60FE1CF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C53D6C-6048-4707-8CBA-D13678647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141772-A2B1-457C-8E38-7EA115314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27CDA6-F7DF-468E-A59F-EA1684C7F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4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E73A7-5A62-426D-BA2E-D651E3339A90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Rectangle 33"/>
          <p:cNvSpPr/>
          <p:nvPr/>
        </p:nvSpPr>
        <p:spPr>
          <a:xfrm>
            <a:off x="0" y="0"/>
            <a:ext cx="1447920" cy="5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Rectangle 34"/>
          <p:cNvSpPr/>
          <p:nvPr/>
        </p:nvSpPr>
        <p:spPr>
          <a:xfrm>
            <a:off x="0" y="6723000"/>
            <a:ext cx="9144000" cy="13500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Rectangle 62"/>
          <p:cNvSpPr/>
          <p:nvPr/>
        </p:nvSpPr>
        <p:spPr>
          <a:xfrm>
            <a:off x="1447920" y="0"/>
            <a:ext cx="7696080" cy="53352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TextBox 63"/>
          <p:cNvSpPr/>
          <p:nvPr/>
        </p:nvSpPr>
        <p:spPr>
          <a:xfrm>
            <a:off x="7540560" y="6738840"/>
            <a:ext cx="144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www.iita.org   I   www.cgiar.org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" name="Picture 12" descr="\\nas\DATA\MMU\1Publishing_service\50YEARS_Anniversary\50YEARS_logos\IITA TAA White Big.png"/>
          <p:cNvPicPr/>
          <p:nvPr/>
        </p:nvPicPr>
        <p:blipFill>
          <a:blip r:embed="rId3"/>
          <a:stretch/>
        </p:blipFill>
        <p:spPr>
          <a:xfrm>
            <a:off x="68400" y="95400"/>
            <a:ext cx="1301760" cy="380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5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66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8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679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1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Rectangle 33"/>
          <p:cNvSpPr/>
          <p:nvPr/>
        </p:nvSpPr>
        <p:spPr>
          <a:xfrm>
            <a:off x="0" y="0"/>
            <a:ext cx="1447920" cy="5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Rectangle 34"/>
          <p:cNvSpPr/>
          <p:nvPr/>
        </p:nvSpPr>
        <p:spPr>
          <a:xfrm>
            <a:off x="0" y="6723000"/>
            <a:ext cx="9144000" cy="13500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Rectangle 62"/>
          <p:cNvSpPr/>
          <p:nvPr/>
        </p:nvSpPr>
        <p:spPr>
          <a:xfrm>
            <a:off x="1447920" y="0"/>
            <a:ext cx="7696080" cy="53352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TextBox 63"/>
          <p:cNvSpPr/>
          <p:nvPr/>
        </p:nvSpPr>
        <p:spPr>
          <a:xfrm>
            <a:off x="7540560" y="6738840"/>
            <a:ext cx="144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www.iita.org   I   www.cgiar.org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6" name="Picture 12" descr="\\nas\DATA\MMU\1Publishing_service\50YEARS_Anniversary\50YEARS_logos\IITA TAA White Big.png"/>
          <p:cNvPicPr/>
          <p:nvPr/>
        </p:nvPicPr>
        <p:blipFill>
          <a:blip r:embed="rId3"/>
          <a:stretch/>
        </p:blipFill>
        <p:spPr>
          <a:xfrm>
            <a:off x="68400" y="95400"/>
            <a:ext cx="1301760" cy="380880"/>
          </a:xfrm>
          <a:prstGeom prst="rect">
            <a:avLst/>
          </a:prstGeom>
          <a:ln w="0">
            <a:noFill/>
          </a:ln>
        </p:spPr>
      </p:pic>
      <p:sp>
        <p:nvSpPr>
          <p:cNvPr id="697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e78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 type="dt" idx="28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 type="ftr" idx="29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5"/>
          <p:cNvSpPr>
            <a:spLocks noGrp="1"/>
          </p:cNvSpPr>
          <p:nvPr>
            <p:ph type="sldNum" idx="30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0A1D2-7C48-4EF1-AFCB-FFDE7ECEB069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74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75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Rectangle 33"/>
          <p:cNvSpPr/>
          <p:nvPr/>
        </p:nvSpPr>
        <p:spPr>
          <a:xfrm>
            <a:off x="0" y="0"/>
            <a:ext cx="1447920" cy="5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Rectangle 34"/>
          <p:cNvSpPr/>
          <p:nvPr/>
        </p:nvSpPr>
        <p:spPr>
          <a:xfrm>
            <a:off x="0" y="6723000"/>
            <a:ext cx="9144000" cy="13500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Rectangle 62"/>
          <p:cNvSpPr/>
          <p:nvPr/>
        </p:nvSpPr>
        <p:spPr>
          <a:xfrm>
            <a:off x="1447920" y="0"/>
            <a:ext cx="7696080" cy="53352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TextBox 63"/>
          <p:cNvSpPr/>
          <p:nvPr/>
        </p:nvSpPr>
        <p:spPr>
          <a:xfrm>
            <a:off x="7540560" y="6738840"/>
            <a:ext cx="144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www.iita.org   I   www.cgiar.org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0" name="Picture 12" descr="\\nas\DATA\MMU\1Publishing_service\50YEARS_Anniversary\50YEARS_logos\IITA TAA White Big.png"/>
          <p:cNvPicPr/>
          <p:nvPr/>
        </p:nvPicPr>
        <p:blipFill>
          <a:blip r:embed="rId3"/>
          <a:stretch/>
        </p:blipFill>
        <p:spPr>
          <a:xfrm>
            <a:off x="68400" y="95400"/>
            <a:ext cx="1301760" cy="380880"/>
          </a:xfrm>
          <a:prstGeom prst="rect">
            <a:avLst/>
          </a:prstGeom>
          <a:ln w="0">
            <a:noFill/>
          </a:ln>
        </p:spPr>
      </p:pic>
      <p:sp>
        <p:nvSpPr>
          <p:cNvPr id="771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e78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 type="dt" idx="31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 type="ftr" idx="32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 type="sldNum" idx="33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AE8F0-F415-444A-800A-D51F3A88E1A6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3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814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6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827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9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Rectangle 33"/>
          <p:cNvSpPr/>
          <p:nvPr/>
        </p:nvSpPr>
        <p:spPr>
          <a:xfrm>
            <a:off x="0" y="0"/>
            <a:ext cx="1447920" cy="5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Rectangle 34"/>
          <p:cNvSpPr/>
          <p:nvPr/>
        </p:nvSpPr>
        <p:spPr>
          <a:xfrm>
            <a:off x="0" y="6723000"/>
            <a:ext cx="9144000" cy="13500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Rectangle 62"/>
          <p:cNvSpPr/>
          <p:nvPr/>
        </p:nvSpPr>
        <p:spPr>
          <a:xfrm>
            <a:off x="1447920" y="0"/>
            <a:ext cx="7696080" cy="53352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TextBox 63"/>
          <p:cNvSpPr/>
          <p:nvPr/>
        </p:nvSpPr>
        <p:spPr>
          <a:xfrm>
            <a:off x="7540560" y="6738840"/>
            <a:ext cx="144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www.iita.org   I   www.cgiar.org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4" name="Picture 12" descr="\\nas\DATA\MMU\1Publishing_service\50YEARS_Anniversary\50YEARS_logos\IITA TAA White Big.png"/>
          <p:cNvPicPr/>
          <p:nvPr/>
        </p:nvPicPr>
        <p:blipFill>
          <a:blip r:embed="rId3"/>
          <a:stretch/>
        </p:blipFill>
        <p:spPr>
          <a:xfrm>
            <a:off x="68400" y="95400"/>
            <a:ext cx="1301760" cy="380880"/>
          </a:xfrm>
          <a:prstGeom prst="rect">
            <a:avLst/>
          </a:prstGeom>
          <a:ln w="0">
            <a:noFill/>
          </a:ln>
        </p:spPr>
      </p:pic>
      <p:sp>
        <p:nvSpPr>
          <p:cNvPr id="845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e78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TextBox 66"/>
          <p:cNvSpPr/>
          <p:nvPr/>
        </p:nvSpPr>
        <p:spPr>
          <a:xfrm>
            <a:off x="1808280" y="6476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e78712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TextBox 67"/>
          <p:cNvSpPr/>
          <p:nvPr/>
        </p:nvSpPr>
        <p:spPr>
          <a:xfrm>
            <a:off x="8169120" y="2905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e78712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 type="dt" idx="34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 type="ftr" idx="35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5"/>
          <p:cNvSpPr>
            <a:spLocks noGrp="1"/>
          </p:cNvSpPr>
          <p:nvPr>
            <p:ph type="sldNum" idx="36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67473-67D6-4941-B624-0E77BE7CB8A4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89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90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Rectangle 33"/>
          <p:cNvSpPr/>
          <p:nvPr/>
        </p:nvSpPr>
        <p:spPr>
          <a:xfrm>
            <a:off x="0" y="0"/>
            <a:ext cx="1447920" cy="5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Rectangle 34"/>
          <p:cNvSpPr/>
          <p:nvPr/>
        </p:nvSpPr>
        <p:spPr>
          <a:xfrm>
            <a:off x="0" y="6723000"/>
            <a:ext cx="9144000" cy="13500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Rectangle 62"/>
          <p:cNvSpPr/>
          <p:nvPr/>
        </p:nvSpPr>
        <p:spPr>
          <a:xfrm>
            <a:off x="1447920" y="0"/>
            <a:ext cx="7696080" cy="53352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TextBox 63"/>
          <p:cNvSpPr/>
          <p:nvPr/>
        </p:nvSpPr>
        <p:spPr>
          <a:xfrm>
            <a:off x="7540560" y="6738840"/>
            <a:ext cx="144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www.iita.org   I   www.cgiar.org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0" name="Picture 12" descr="\\nas\DATA\MMU\1Publishing_service\50YEARS_Anniversary\50YEARS_logos\IITA TAA White Big.png"/>
          <p:cNvPicPr/>
          <p:nvPr/>
        </p:nvPicPr>
        <p:blipFill>
          <a:blip r:embed="rId3"/>
          <a:stretch/>
        </p:blipFill>
        <p:spPr>
          <a:xfrm>
            <a:off x="68400" y="95400"/>
            <a:ext cx="1301760" cy="380880"/>
          </a:xfrm>
          <a:prstGeom prst="rect">
            <a:avLst/>
          </a:prstGeom>
          <a:ln w="0">
            <a:noFill/>
          </a:ln>
        </p:spPr>
      </p:pic>
      <p:sp>
        <p:nvSpPr>
          <p:cNvPr id="921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e78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 type="dt" idx="37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 type="ftr" idx="38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PlaceHolder 5"/>
          <p:cNvSpPr>
            <a:spLocks noGrp="1"/>
          </p:cNvSpPr>
          <p:nvPr>
            <p:ph type="sldNum" idx="39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5EB27-6C68-4C1A-99E0-3259A307F2F3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3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964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6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977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9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Rectangle 33"/>
          <p:cNvSpPr/>
          <p:nvPr/>
        </p:nvSpPr>
        <p:spPr>
          <a:xfrm>
            <a:off x="0" y="0"/>
            <a:ext cx="1447920" cy="5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Rectangle 34"/>
          <p:cNvSpPr/>
          <p:nvPr/>
        </p:nvSpPr>
        <p:spPr>
          <a:xfrm>
            <a:off x="0" y="6723000"/>
            <a:ext cx="9144000" cy="13500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Rectangle 62"/>
          <p:cNvSpPr/>
          <p:nvPr/>
        </p:nvSpPr>
        <p:spPr>
          <a:xfrm>
            <a:off x="1447920" y="0"/>
            <a:ext cx="7696080" cy="53352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TextBox 63"/>
          <p:cNvSpPr/>
          <p:nvPr/>
        </p:nvSpPr>
        <p:spPr>
          <a:xfrm>
            <a:off x="7540560" y="6738840"/>
            <a:ext cx="144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www.iita.org   I   www.cgiar.org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4" name="Picture 12" descr="\\nas\DATA\MMU\1Publishing_service\50YEARS_Anniversary\50YEARS_logos\IITA TAA White Big.png"/>
          <p:cNvPicPr/>
          <p:nvPr/>
        </p:nvPicPr>
        <p:blipFill>
          <a:blip r:embed="rId3"/>
          <a:stretch/>
        </p:blipFill>
        <p:spPr>
          <a:xfrm>
            <a:off x="68400" y="95400"/>
            <a:ext cx="1301760" cy="380880"/>
          </a:xfrm>
          <a:prstGeom prst="rect">
            <a:avLst/>
          </a:prstGeom>
          <a:ln w="0">
            <a:noFill/>
          </a:ln>
        </p:spPr>
      </p:pic>
      <p:sp>
        <p:nvSpPr>
          <p:cNvPr id="995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e78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TextBox 66"/>
          <p:cNvSpPr/>
          <p:nvPr/>
        </p:nvSpPr>
        <p:spPr>
          <a:xfrm>
            <a:off x="1808280" y="6476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e78712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TextBox 67"/>
          <p:cNvSpPr/>
          <p:nvPr/>
        </p:nvSpPr>
        <p:spPr>
          <a:xfrm>
            <a:off x="8169120" y="2905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e78712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 type="dt" idx="40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 type="ftr" idx="41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PlaceHolder 5"/>
          <p:cNvSpPr>
            <a:spLocks noGrp="1"/>
          </p:cNvSpPr>
          <p:nvPr>
            <p:ph type="sldNum" idx="42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142FC-5F18-4667-AEBA-DC470010D548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04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05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Rectangle 33"/>
          <p:cNvSpPr/>
          <p:nvPr/>
        </p:nvSpPr>
        <p:spPr>
          <a:xfrm>
            <a:off x="0" y="0"/>
            <a:ext cx="1447920" cy="5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Rectangle 34"/>
          <p:cNvSpPr/>
          <p:nvPr/>
        </p:nvSpPr>
        <p:spPr>
          <a:xfrm>
            <a:off x="0" y="6723000"/>
            <a:ext cx="9144000" cy="13500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Rectangle 62"/>
          <p:cNvSpPr/>
          <p:nvPr/>
        </p:nvSpPr>
        <p:spPr>
          <a:xfrm>
            <a:off x="1447920" y="0"/>
            <a:ext cx="7696080" cy="53352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TextBox 63"/>
          <p:cNvSpPr/>
          <p:nvPr/>
        </p:nvSpPr>
        <p:spPr>
          <a:xfrm>
            <a:off x="7540560" y="6738840"/>
            <a:ext cx="144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www.iita.org   I   www.cgiar.org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0" name="Picture 12" descr="\\nas\DATA\MMU\1Publishing_service\50YEARS_Anniversary\50YEARS_logos\IITA TAA White Big.png"/>
          <p:cNvPicPr/>
          <p:nvPr/>
        </p:nvPicPr>
        <p:blipFill>
          <a:blip r:embed="rId3"/>
          <a:stretch/>
        </p:blipFill>
        <p:spPr>
          <a:xfrm>
            <a:off x="68400" y="95400"/>
            <a:ext cx="1301760" cy="380880"/>
          </a:xfrm>
          <a:prstGeom prst="rect">
            <a:avLst/>
          </a:prstGeom>
          <a:ln w="0">
            <a:noFill/>
          </a:ln>
        </p:spPr>
      </p:pic>
      <p:sp>
        <p:nvSpPr>
          <p:cNvPr id="1071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e78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4" name="PlaceHolder 3"/>
          <p:cNvSpPr>
            <a:spLocks noGrp="1"/>
          </p:cNvSpPr>
          <p:nvPr>
            <p:ph type="dt" idx="43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PlaceHolder 4"/>
          <p:cNvSpPr>
            <a:spLocks noGrp="1"/>
          </p:cNvSpPr>
          <p:nvPr>
            <p:ph type="ftr" idx="44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PlaceHolder 5"/>
          <p:cNvSpPr>
            <a:spLocks noGrp="1"/>
          </p:cNvSpPr>
          <p:nvPr>
            <p:ph type="sldNum" idx="45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4BFE8-AE99-41DA-A3AA-069004FF27B5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3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114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6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127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3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4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5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6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7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8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9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Rectangle 33"/>
          <p:cNvSpPr/>
          <p:nvPr/>
        </p:nvSpPr>
        <p:spPr>
          <a:xfrm>
            <a:off x="0" y="0"/>
            <a:ext cx="1447920" cy="5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Rectangle 34"/>
          <p:cNvSpPr/>
          <p:nvPr/>
        </p:nvSpPr>
        <p:spPr>
          <a:xfrm>
            <a:off x="0" y="6723000"/>
            <a:ext cx="9144000" cy="13500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Rectangle 62"/>
          <p:cNvSpPr/>
          <p:nvPr/>
        </p:nvSpPr>
        <p:spPr>
          <a:xfrm>
            <a:off x="1447920" y="0"/>
            <a:ext cx="7696080" cy="53352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TextBox 63"/>
          <p:cNvSpPr/>
          <p:nvPr/>
        </p:nvSpPr>
        <p:spPr>
          <a:xfrm>
            <a:off x="7540560" y="6738840"/>
            <a:ext cx="144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www.iita.org   I   www.cgiar.org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4" name="Picture 12" descr="\\nas\DATA\MMU\1Publishing_service\50YEARS_Anniversary\50YEARS_logos\IITA TAA White Big.png"/>
          <p:cNvPicPr/>
          <p:nvPr/>
        </p:nvPicPr>
        <p:blipFill>
          <a:blip r:embed="rId3"/>
          <a:stretch/>
        </p:blipFill>
        <p:spPr>
          <a:xfrm>
            <a:off x="68400" y="95400"/>
            <a:ext cx="1301760" cy="380880"/>
          </a:xfrm>
          <a:prstGeom prst="rect">
            <a:avLst/>
          </a:prstGeom>
          <a:ln w="0">
            <a:noFill/>
          </a:ln>
        </p:spPr>
      </p:pic>
      <p:sp>
        <p:nvSpPr>
          <p:cNvPr id="1145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e78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7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48" name="PlaceHolder 3"/>
          <p:cNvSpPr>
            <a:spLocks noGrp="1"/>
          </p:cNvSpPr>
          <p:nvPr>
            <p:ph type="dt" idx="46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PlaceHolder 4"/>
          <p:cNvSpPr>
            <a:spLocks noGrp="1"/>
          </p:cNvSpPr>
          <p:nvPr>
            <p:ph type="ftr" idx="47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PlaceHolder 5"/>
          <p:cNvSpPr>
            <a:spLocks noGrp="1"/>
          </p:cNvSpPr>
          <p:nvPr>
            <p:ph type="sldNum" idx="48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2ADA6-2F2A-4923-8D3D-AF9FD3AA62A2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7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188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9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3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4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5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6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7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8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9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0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201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2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3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4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5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6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7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8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9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0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1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2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3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Rectangle 33"/>
          <p:cNvSpPr/>
          <p:nvPr/>
        </p:nvSpPr>
        <p:spPr>
          <a:xfrm>
            <a:off x="0" y="0"/>
            <a:ext cx="1447920" cy="5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Rectangle 34"/>
          <p:cNvSpPr/>
          <p:nvPr/>
        </p:nvSpPr>
        <p:spPr>
          <a:xfrm>
            <a:off x="0" y="6723000"/>
            <a:ext cx="9144000" cy="13500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Rectangle 62"/>
          <p:cNvSpPr/>
          <p:nvPr/>
        </p:nvSpPr>
        <p:spPr>
          <a:xfrm>
            <a:off x="1447920" y="0"/>
            <a:ext cx="7696080" cy="53352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TextBox 63"/>
          <p:cNvSpPr/>
          <p:nvPr/>
        </p:nvSpPr>
        <p:spPr>
          <a:xfrm>
            <a:off x="7540560" y="6738840"/>
            <a:ext cx="144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www.iita.org   I   www.cgiar.org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8" name="Picture 12" descr="\\nas\DATA\MMU\1Publishing_service\50YEARS_Anniversary\50YEARS_logos\IITA TAA White Big.png"/>
          <p:cNvPicPr/>
          <p:nvPr/>
        </p:nvPicPr>
        <p:blipFill>
          <a:blip r:embed="rId3"/>
          <a:stretch/>
        </p:blipFill>
        <p:spPr>
          <a:xfrm>
            <a:off x="68400" y="95400"/>
            <a:ext cx="1301760" cy="380880"/>
          </a:xfrm>
          <a:prstGeom prst="rect">
            <a:avLst/>
          </a:prstGeom>
          <a:ln w="0">
            <a:noFill/>
          </a:ln>
        </p:spPr>
      </p:pic>
      <p:sp>
        <p:nvSpPr>
          <p:cNvPr id="1219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e78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21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22" name="PlaceHolder 3"/>
          <p:cNvSpPr>
            <a:spLocks noGrp="1"/>
          </p:cNvSpPr>
          <p:nvPr>
            <p:ph type="dt" idx="49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PlaceHolder 4"/>
          <p:cNvSpPr>
            <a:spLocks noGrp="1"/>
          </p:cNvSpPr>
          <p:nvPr>
            <p:ph type="ftr" idx="50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PlaceHolder 5"/>
          <p:cNvSpPr>
            <a:spLocks noGrp="1"/>
          </p:cNvSpPr>
          <p:nvPr>
            <p:ph type="sldNum" idx="51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C96BD-8D90-410D-B608-639994353038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74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87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33"/>
          <p:cNvSpPr/>
          <p:nvPr/>
        </p:nvSpPr>
        <p:spPr>
          <a:xfrm>
            <a:off x="0" y="0"/>
            <a:ext cx="1447920" cy="5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34"/>
          <p:cNvSpPr/>
          <p:nvPr/>
        </p:nvSpPr>
        <p:spPr>
          <a:xfrm>
            <a:off x="0" y="6723000"/>
            <a:ext cx="9144000" cy="13500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62"/>
          <p:cNvSpPr/>
          <p:nvPr/>
        </p:nvSpPr>
        <p:spPr>
          <a:xfrm>
            <a:off x="1447920" y="0"/>
            <a:ext cx="7696080" cy="53352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63"/>
          <p:cNvSpPr/>
          <p:nvPr/>
        </p:nvSpPr>
        <p:spPr>
          <a:xfrm>
            <a:off x="7540560" y="6738840"/>
            <a:ext cx="144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www.iita.org   I   www.cgiar.org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12" descr="\\nas\DATA\MMU\1Publishing_service\50YEARS_Anniversary\50YEARS_logos\IITA TAA White Big.png"/>
          <p:cNvPicPr/>
          <p:nvPr/>
        </p:nvPicPr>
        <p:blipFill>
          <a:blip r:embed="rId3"/>
          <a:stretch/>
        </p:blipFill>
        <p:spPr>
          <a:xfrm>
            <a:off x="68400" y="95400"/>
            <a:ext cx="1301760" cy="380880"/>
          </a:xfrm>
          <a:prstGeom prst="rect">
            <a:avLst/>
          </a:prstGeom>
          <a:ln w="0">
            <a:noFill/>
          </a:ln>
        </p:spPr>
      </p:pic>
      <p:sp>
        <p:nvSpPr>
          <p:cNvPr id="105" name="Freeform 65"/>
          <p:cNvSpPr/>
          <p:nvPr/>
        </p:nvSpPr>
        <p:spPr>
          <a:xfrm>
            <a:off x="-31680" y="4321080"/>
            <a:ext cx="1395360" cy="781200"/>
          </a:xfrm>
          <a:custGeom>
            <a:avLst/>
            <a:gdLst/>
            <a:ahLst/>
            <a:rect l="l" t="t" r="r" b="b"/>
            <a:pathLst>
              <a:path w="8042" h="10000">
                <a:moveTo>
                  <a:pt x="5799" y="10000"/>
                </a:moveTo>
                <a:cubicBezTo>
                  <a:pt x="5880" y="10000"/>
                  <a:pt x="5934" y="9940"/>
                  <a:pt x="5961" y="9880"/>
                </a:cubicBezTo>
                <a:cubicBezTo>
                  <a:pt x="5961" y="9820"/>
                  <a:pt x="5988" y="9820"/>
                  <a:pt x="5988" y="9820"/>
                </a:cubicBezTo>
                <a:lnTo>
                  <a:pt x="8042" y="5260"/>
                </a:lnTo>
                <a:cubicBezTo>
                  <a:pt x="8096" y="5140"/>
                  <a:pt x="8096" y="4901"/>
                  <a:pt x="8042" y="4721"/>
                </a:cubicBezTo>
                <a:lnTo>
                  <a:pt x="5988" y="221"/>
                </a:lnTo>
                <a:cubicBezTo>
                  <a:pt x="5988" y="160"/>
                  <a:pt x="5961" y="160"/>
                  <a:pt x="5961" y="160"/>
                </a:cubicBezTo>
                <a:cubicBezTo>
                  <a:pt x="5934" y="101"/>
                  <a:pt x="5880" y="41"/>
                  <a:pt x="5799" y="41"/>
                </a:cubicBezTo>
                <a:lnTo>
                  <a:pt x="18" y="0"/>
                </a:lnTo>
                <a:cubicBezTo>
                  <a:pt x="12" y="3330"/>
                  <a:pt x="6" y="6661"/>
                  <a:pt x="0" y="9991"/>
                </a:cubicBezTo>
                <a:lnTo>
                  <a:pt x="5799" y="10000"/>
                </a:lnTo>
                <a:close/>
              </a:path>
            </a:pathLst>
          </a:custGeom>
          <a:solidFill>
            <a:srgbClr val="e78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4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5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6"/>
          </p:nvPr>
        </p:nvSpPr>
        <p:spPr>
          <a:xfrm>
            <a:off x="423360" y="4529160"/>
            <a:ext cx="584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0EA74-726A-4EBC-B6E5-C5478B9450BA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48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61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33"/>
          <p:cNvSpPr/>
          <p:nvPr/>
        </p:nvSpPr>
        <p:spPr>
          <a:xfrm>
            <a:off x="0" y="0"/>
            <a:ext cx="1447920" cy="5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34"/>
          <p:cNvSpPr/>
          <p:nvPr/>
        </p:nvSpPr>
        <p:spPr>
          <a:xfrm>
            <a:off x="0" y="6723000"/>
            <a:ext cx="9144000" cy="13500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62"/>
          <p:cNvSpPr/>
          <p:nvPr/>
        </p:nvSpPr>
        <p:spPr>
          <a:xfrm>
            <a:off x="1447920" y="0"/>
            <a:ext cx="7696080" cy="53352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63"/>
          <p:cNvSpPr/>
          <p:nvPr/>
        </p:nvSpPr>
        <p:spPr>
          <a:xfrm>
            <a:off x="7540560" y="6738840"/>
            <a:ext cx="144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www.iita.org   I   www.cgiar.org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12" descr="\\nas\DATA\MMU\1Publishing_service\50YEARS_Anniversary\50YEARS_logos\IITA TAA White Big.png"/>
          <p:cNvPicPr/>
          <p:nvPr/>
        </p:nvPicPr>
        <p:blipFill>
          <a:blip r:embed="rId3"/>
          <a:stretch/>
        </p:blipFill>
        <p:spPr>
          <a:xfrm>
            <a:off x="68400" y="95400"/>
            <a:ext cx="1301760" cy="380880"/>
          </a:xfrm>
          <a:prstGeom prst="rect">
            <a:avLst/>
          </a:prstGeom>
          <a:ln w="0">
            <a:noFill/>
          </a:ln>
        </p:spPr>
      </p:pic>
      <p:sp>
        <p:nvSpPr>
          <p:cNvPr id="179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e78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dt" idx="7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ftr" idx="8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 type="sldNum" idx="9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7B8D6-5CFC-4858-B122-B24CB7406C85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1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222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235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33"/>
          <p:cNvSpPr/>
          <p:nvPr/>
        </p:nvSpPr>
        <p:spPr>
          <a:xfrm>
            <a:off x="0" y="0"/>
            <a:ext cx="1447920" cy="5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34"/>
          <p:cNvSpPr/>
          <p:nvPr/>
        </p:nvSpPr>
        <p:spPr>
          <a:xfrm>
            <a:off x="0" y="6723000"/>
            <a:ext cx="9144000" cy="13500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62"/>
          <p:cNvSpPr/>
          <p:nvPr/>
        </p:nvSpPr>
        <p:spPr>
          <a:xfrm>
            <a:off x="1447920" y="0"/>
            <a:ext cx="7696080" cy="53352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63"/>
          <p:cNvSpPr/>
          <p:nvPr/>
        </p:nvSpPr>
        <p:spPr>
          <a:xfrm>
            <a:off x="7540560" y="6738840"/>
            <a:ext cx="144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www.iita.org   I   www.cgiar.org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12" descr="\\nas\DATA\MMU\1Publishing_service\50YEARS_Anniversary\50YEARS_logos\IITA TAA White Big.png"/>
          <p:cNvPicPr/>
          <p:nvPr/>
        </p:nvPicPr>
        <p:blipFill>
          <a:blip r:embed="rId3"/>
          <a:stretch/>
        </p:blipFill>
        <p:spPr>
          <a:xfrm>
            <a:off x="68400" y="95400"/>
            <a:ext cx="1301760" cy="380880"/>
          </a:xfrm>
          <a:prstGeom prst="rect">
            <a:avLst/>
          </a:prstGeom>
          <a:ln w="0">
            <a:noFill/>
          </a:ln>
        </p:spPr>
      </p:pic>
      <p:sp>
        <p:nvSpPr>
          <p:cNvPr id="253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e78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dt" idx="10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 type="ftr" idx="11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 type="sldNum" idx="12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3DBE2-B467-4E2C-92F8-6C80F94B5EDC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5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296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8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309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1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33"/>
          <p:cNvSpPr/>
          <p:nvPr/>
        </p:nvSpPr>
        <p:spPr>
          <a:xfrm>
            <a:off x="0" y="0"/>
            <a:ext cx="1447920" cy="5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34"/>
          <p:cNvSpPr/>
          <p:nvPr/>
        </p:nvSpPr>
        <p:spPr>
          <a:xfrm>
            <a:off x="0" y="6723000"/>
            <a:ext cx="9144000" cy="13500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62"/>
          <p:cNvSpPr/>
          <p:nvPr/>
        </p:nvSpPr>
        <p:spPr>
          <a:xfrm>
            <a:off x="1447920" y="0"/>
            <a:ext cx="7696080" cy="53352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Box 63"/>
          <p:cNvSpPr/>
          <p:nvPr/>
        </p:nvSpPr>
        <p:spPr>
          <a:xfrm>
            <a:off x="7540560" y="6738840"/>
            <a:ext cx="144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www.iita.org   I   www.cgiar.org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Picture 12" descr="\\nas\DATA\MMU\1Publishing_service\50YEARS_Anniversary\50YEARS_logos\IITA TAA White Big.png"/>
          <p:cNvPicPr/>
          <p:nvPr/>
        </p:nvPicPr>
        <p:blipFill>
          <a:blip r:embed="rId3"/>
          <a:stretch/>
        </p:blipFill>
        <p:spPr>
          <a:xfrm>
            <a:off x="68400" y="95400"/>
            <a:ext cx="1301760" cy="380880"/>
          </a:xfrm>
          <a:prstGeom prst="rect">
            <a:avLst/>
          </a:prstGeom>
          <a:ln w="0">
            <a:noFill/>
          </a:ln>
        </p:spPr>
      </p:pic>
      <p:sp>
        <p:nvSpPr>
          <p:cNvPr id="327" name="Freeform 65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e78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13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14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15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C4DAD-DE2D-49DD-85F9-D6FCBE3AD654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37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38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33"/>
          <p:cNvSpPr/>
          <p:nvPr/>
        </p:nvSpPr>
        <p:spPr>
          <a:xfrm>
            <a:off x="0" y="0"/>
            <a:ext cx="1447920" cy="5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Rectangle 34"/>
          <p:cNvSpPr/>
          <p:nvPr/>
        </p:nvSpPr>
        <p:spPr>
          <a:xfrm>
            <a:off x="0" y="6723000"/>
            <a:ext cx="9144000" cy="13500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62"/>
          <p:cNvSpPr/>
          <p:nvPr/>
        </p:nvSpPr>
        <p:spPr>
          <a:xfrm>
            <a:off x="1447920" y="0"/>
            <a:ext cx="7696080" cy="53352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Box 63"/>
          <p:cNvSpPr/>
          <p:nvPr/>
        </p:nvSpPr>
        <p:spPr>
          <a:xfrm>
            <a:off x="7540560" y="6738840"/>
            <a:ext cx="144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www.iita.org   I   www.cgiar.org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" name="Picture 12" descr="\\nas\DATA\MMU\1Publishing_service\50YEARS_Anniversary\50YEARS_logos\IITA TAA White Big.png"/>
          <p:cNvPicPr/>
          <p:nvPr/>
        </p:nvPicPr>
        <p:blipFill>
          <a:blip r:embed="rId3"/>
          <a:stretch/>
        </p:blipFill>
        <p:spPr>
          <a:xfrm>
            <a:off x="68400" y="95400"/>
            <a:ext cx="1301760" cy="380880"/>
          </a:xfrm>
          <a:prstGeom prst="rect">
            <a:avLst/>
          </a:prstGeom>
          <a:ln w="0">
            <a:noFill/>
          </a:ln>
        </p:spPr>
      </p:pic>
      <p:sp>
        <p:nvSpPr>
          <p:cNvPr id="401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e78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 type="dt" idx="16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 type="ftr" idx="17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 type="sldNum" idx="18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F4B8A-E287-408A-99EC-FED8B057FCAE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3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444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6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457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9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33"/>
          <p:cNvSpPr/>
          <p:nvPr/>
        </p:nvSpPr>
        <p:spPr>
          <a:xfrm>
            <a:off x="0" y="0"/>
            <a:ext cx="1447920" cy="5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Rectangle 34"/>
          <p:cNvSpPr/>
          <p:nvPr/>
        </p:nvSpPr>
        <p:spPr>
          <a:xfrm>
            <a:off x="0" y="6723000"/>
            <a:ext cx="9144000" cy="13500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Rectangle 62"/>
          <p:cNvSpPr/>
          <p:nvPr/>
        </p:nvSpPr>
        <p:spPr>
          <a:xfrm>
            <a:off x="1447920" y="0"/>
            <a:ext cx="7696080" cy="53352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Box 63"/>
          <p:cNvSpPr/>
          <p:nvPr/>
        </p:nvSpPr>
        <p:spPr>
          <a:xfrm>
            <a:off x="7540560" y="6738840"/>
            <a:ext cx="144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www.iita.org   I   www.cgiar.org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4" name="Picture 12" descr="\\nas\DATA\MMU\1Publishing_service\50YEARS_Anniversary\50YEARS_logos\IITA TAA White Big.png"/>
          <p:cNvPicPr/>
          <p:nvPr/>
        </p:nvPicPr>
        <p:blipFill>
          <a:blip r:embed="rId3"/>
          <a:stretch/>
        </p:blipFill>
        <p:spPr>
          <a:xfrm>
            <a:off x="68400" y="95400"/>
            <a:ext cx="1301760" cy="380880"/>
          </a:xfrm>
          <a:prstGeom prst="rect">
            <a:avLst/>
          </a:prstGeom>
          <a:ln w="0">
            <a:noFill/>
          </a:ln>
        </p:spPr>
      </p:pic>
      <p:sp>
        <p:nvSpPr>
          <p:cNvPr id="475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e78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 type="dt" idx="19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 type="ftr" idx="20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 type="sldNum" idx="21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2F45B-6E8C-4699-AE59-D0022CAD4256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7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518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0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531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3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Rectangle 33"/>
          <p:cNvSpPr/>
          <p:nvPr/>
        </p:nvSpPr>
        <p:spPr>
          <a:xfrm>
            <a:off x="0" y="0"/>
            <a:ext cx="1447920" cy="5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Rectangle 34"/>
          <p:cNvSpPr/>
          <p:nvPr/>
        </p:nvSpPr>
        <p:spPr>
          <a:xfrm>
            <a:off x="0" y="6723000"/>
            <a:ext cx="9144000" cy="13500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Rectangle 62"/>
          <p:cNvSpPr/>
          <p:nvPr/>
        </p:nvSpPr>
        <p:spPr>
          <a:xfrm>
            <a:off x="1447920" y="0"/>
            <a:ext cx="7696080" cy="53352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Box 63"/>
          <p:cNvSpPr/>
          <p:nvPr/>
        </p:nvSpPr>
        <p:spPr>
          <a:xfrm>
            <a:off x="7540560" y="6738840"/>
            <a:ext cx="144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www.iita.org   I   www.cgiar.org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8" name="Picture 12" descr="\\nas\DATA\MMU\1Publishing_service\50YEARS_Anniversary\50YEARS_logos\IITA TAA White Big.png"/>
          <p:cNvPicPr/>
          <p:nvPr/>
        </p:nvPicPr>
        <p:blipFill>
          <a:blip r:embed="rId3"/>
          <a:stretch/>
        </p:blipFill>
        <p:spPr>
          <a:xfrm>
            <a:off x="68400" y="95400"/>
            <a:ext cx="1301760" cy="380880"/>
          </a:xfrm>
          <a:prstGeom prst="rect">
            <a:avLst/>
          </a:prstGeom>
          <a:ln w="0">
            <a:noFill/>
          </a:ln>
        </p:spPr>
      </p:pic>
      <p:sp>
        <p:nvSpPr>
          <p:cNvPr id="549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e78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 type="dt" idx="22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 type="ftr" idx="23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 type="sldNum" idx="24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2205B-9703-4A47-B002-D44C2D81C237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1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592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4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605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7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Rectangle 33"/>
          <p:cNvSpPr/>
          <p:nvPr/>
        </p:nvSpPr>
        <p:spPr>
          <a:xfrm>
            <a:off x="0" y="0"/>
            <a:ext cx="1447920" cy="5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Rectangle 34"/>
          <p:cNvSpPr/>
          <p:nvPr/>
        </p:nvSpPr>
        <p:spPr>
          <a:xfrm>
            <a:off x="0" y="6723000"/>
            <a:ext cx="9144000" cy="13500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Rectangle 62"/>
          <p:cNvSpPr/>
          <p:nvPr/>
        </p:nvSpPr>
        <p:spPr>
          <a:xfrm>
            <a:off x="1447920" y="0"/>
            <a:ext cx="7696080" cy="53352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TextBox 63"/>
          <p:cNvSpPr/>
          <p:nvPr/>
        </p:nvSpPr>
        <p:spPr>
          <a:xfrm>
            <a:off x="7540560" y="6738840"/>
            <a:ext cx="144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www.iita.org   I   www.cgiar.org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2" name="Picture 12" descr="\\nas\DATA\MMU\1Publishing_service\50YEARS_Anniversary\50YEARS_logos\IITA TAA White Big.png"/>
          <p:cNvPicPr/>
          <p:nvPr/>
        </p:nvPicPr>
        <p:blipFill>
          <a:blip r:embed="rId3"/>
          <a:stretch/>
        </p:blipFill>
        <p:spPr>
          <a:xfrm>
            <a:off x="68400" y="95400"/>
            <a:ext cx="1301760" cy="380880"/>
          </a:xfrm>
          <a:prstGeom prst="rect">
            <a:avLst/>
          </a:prstGeom>
          <a:ln w="0">
            <a:noFill/>
          </a:ln>
        </p:spPr>
      </p:pic>
      <p:sp>
        <p:nvSpPr>
          <p:cNvPr id="623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e78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 type="dt" idx="25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 type="ftr" idx="26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5"/>
          <p:cNvSpPr>
            <a:spLocks noGrp="1"/>
          </p:cNvSpPr>
          <p:nvPr>
            <p:ph type="sldNum" idx="27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EFDCA-E26E-4DCA-8C73-BCF365E2FCF7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9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Title 1"/>
          <p:cNvSpPr/>
          <p:nvPr/>
        </p:nvSpPr>
        <p:spPr>
          <a:xfrm>
            <a:off x="1600200" y="33480"/>
            <a:ext cx="7391520" cy="103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Content Placeholder 2"/>
          <p:cNvSpPr/>
          <p:nvPr/>
        </p:nvSpPr>
        <p:spPr>
          <a:xfrm>
            <a:off x="152280" y="914400"/>
            <a:ext cx="883944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Narrow"/>
                <a:ea typeface="Arial"/>
              </a:rPr>
              <a:t>INVC- Bridging Activ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 Narrow"/>
                <a:ea typeface="Arial"/>
              </a:rPr>
              <a:t>Advancing Value Chains of Groundnuts and Soy be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  <a:ea typeface="Arial"/>
              </a:rPr>
              <a:t>Presented at the Annual Review workshop, Lilongwe Hotel, Lilongw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June 201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3" name="Picture 8" descr="Description: Standard_USAID_Identity_CMYK"/>
          <p:cNvPicPr/>
          <p:nvPr/>
        </p:nvPicPr>
        <p:blipFill>
          <a:blip r:embed="rId1"/>
          <a:srcRect l="0" t="0" r="45082" b="0"/>
          <a:stretch/>
        </p:blipFill>
        <p:spPr>
          <a:xfrm>
            <a:off x="304920" y="5867280"/>
            <a:ext cx="1904760" cy="712800"/>
          </a:xfrm>
          <a:prstGeom prst="rect">
            <a:avLst/>
          </a:prstGeom>
          <a:ln w="0">
            <a:noFill/>
          </a:ln>
        </p:spPr>
      </p:pic>
      <p:pic>
        <p:nvPicPr>
          <p:cNvPr id="1264" name="Picture 2" descr="C:\Users\jkumwenda\Documents\WORK - ACE\11. RAB\FtF Logo.gif"/>
          <p:cNvPicPr/>
          <p:nvPr/>
        </p:nvPicPr>
        <p:blipFill>
          <a:blip r:embed="rId2"/>
          <a:stretch/>
        </p:blipFill>
        <p:spPr>
          <a:xfrm>
            <a:off x="6934320" y="5867280"/>
            <a:ext cx="1828800" cy="6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1523520" y="446040"/>
            <a:ext cx="3048120" cy="976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262626"/>
                </a:solidFill>
                <a:latin typeface="Calibri"/>
                <a:ea typeface="Calibri"/>
              </a:rPr>
              <a:t>Aggregation &amp; Marketing</a:t>
            </a:r>
            <a:endParaRPr b="0" lang="en-US" sz="2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27" name=""/>
          <p:cNvSpPr txBox="1"/>
          <p:nvPr/>
        </p:nvSpPr>
        <p:spPr>
          <a:xfrm>
            <a:off x="4743000" y="446040"/>
            <a:ext cx="3791160" cy="541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28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12408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  <a:ea typeface="Calibri"/>
              </a:rPr>
              <a:t>Prices of soya beans that were offered by the informal traders ranged from MK110/kg to MK170/kg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  <a:ea typeface="Calibri"/>
              </a:rPr>
              <a:t>Linkage of farmer groups -Nyanja and Chitowo Associations to buyers (24.5MT @ MK200/kg for Nyanja and 15.4 MT for Chitowo @MK160/kg)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329" name="Picture 3" descr="Description: Standard_USAID_Identity_CMYK"/>
          <p:cNvPicPr/>
          <p:nvPr/>
        </p:nvPicPr>
        <p:blipFill>
          <a:blip r:embed="rId1"/>
          <a:srcRect l="0" t="0" r="45082" b="0"/>
          <a:stretch/>
        </p:blipFill>
        <p:spPr>
          <a:xfrm>
            <a:off x="304920" y="5867280"/>
            <a:ext cx="1904760" cy="712800"/>
          </a:xfrm>
          <a:prstGeom prst="rect">
            <a:avLst/>
          </a:prstGeom>
          <a:ln w="0">
            <a:noFill/>
          </a:ln>
        </p:spPr>
      </p:pic>
      <p:pic>
        <p:nvPicPr>
          <p:cNvPr id="1330" name="Picture 2" descr="C:\Users\jkumwenda\Documents\WORK - ACE\11. RAB\FtF Logo.gif"/>
          <p:cNvPicPr/>
          <p:nvPr/>
        </p:nvPicPr>
        <p:blipFill>
          <a:blip r:embed="rId2"/>
          <a:stretch/>
        </p:blipFill>
        <p:spPr>
          <a:xfrm>
            <a:off x="7162920" y="5940360"/>
            <a:ext cx="1828800" cy="620640"/>
          </a:xfrm>
          <a:prstGeom prst="rect">
            <a:avLst/>
          </a:prstGeom>
          <a:ln w="0">
            <a:noFill/>
          </a:ln>
        </p:spPr>
      </p:pic>
      <p:pic>
        <p:nvPicPr>
          <p:cNvPr id="1331" name="Picture 7" descr="C:\Users\PKabuli\Desktop\Marketing photos\IMG-20170603-WA0020.jpg"/>
          <p:cNvPicPr/>
          <p:nvPr/>
        </p:nvPicPr>
        <p:blipFill>
          <a:blip r:embed="rId3"/>
          <a:stretch/>
        </p:blipFill>
        <p:spPr>
          <a:xfrm>
            <a:off x="3795840" y="3149640"/>
            <a:ext cx="5138640" cy="2976480"/>
          </a:xfrm>
          <a:prstGeom prst="rect">
            <a:avLst/>
          </a:prstGeom>
          <a:ln w="0">
            <a:noFill/>
          </a:ln>
        </p:spPr>
      </p:pic>
      <p:pic>
        <p:nvPicPr>
          <p:cNvPr id="1332" name="Picture 8" descr="C:\Users\PKabuli\Desktop\Field visit photos\DSC_0815.JPG"/>
          <p:cNvPicPr/>
          <p:nvPr/>
        </p:nvPicPr>
        <p:blipFill>
          <a:blip r:embed="rId4"/>
          <a:stretch/>
        </p:blipFill>
        <p:spPr>
          <a:xfrm>
            <a:off x="3825720" y="609480"/>
            <a:ext cx="510876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alibri"/>
                <a:ea typeface="Calibri"/>
              </a:rPr>
              <a:t>Value created by the 2 Value chains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graphicFrame>
        <p:nvGraphicFramePr>
          <p:cNvPr id="1334" name=""/>
          <p:cNvGraphicFramePr/>
          <p:nvPr/>
        </p:nvGraphicFramePr>
        <p:xfrm>
          <a:off x="914400" y="2133720"/>
          <a:ext cx="7848720" cy="3085920"/>
        </p:xfrm>
        <a:graphic>
          <a:graphicData uri="http://schemas.openxmlformats.org/drawingml/2006/table">
            <a:tbl>
              <a:tblPr/>
              <a:tblGrid>
                <a:gridCol w="1308240"/>
                <a:gridCol w="1307880"/>
                <a:gridCol w="1308240"/>
                <a:gridCol w="1307880"/>
                <a:gridCol w="1308240"/>
                <a:gridCol w="1308240"/>
              </a:tblGrid>
              <a:tr h="9244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ommod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7871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rea (H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7871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Yield (Kg/h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7871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oduction (Kg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7871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verage Price (MK/Kg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7871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mount (MK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78712"/>
                    </a:solidFill>
                  </a:tcPr>
                </a:tc>
              </a:tr>
              <a:tr h="9244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oy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d9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  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,121.0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d9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               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,468.0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d9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  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,581,6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d9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              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60.0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d9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      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33,060,4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d9cc"/>
                    </a:solidFill>
                  </a:tcPr>
                </a:tc>
              </a:tr>
              <a:tr h="9244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G/nu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ed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  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,432.0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ed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963.6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ed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  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,379,90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ed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              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00.0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ed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      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13,971,15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ede7"/>
                    </a:solidFill>
                  </a:tcPr>
                </a:tc>
              </a:tr>
              <a:tr h="9244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d9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d9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d9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d9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d9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  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,147,031,632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d9cc"/>
                    </a:solidFill>
                  </a:tcPr>
                </a:tc>
              </a:tr>
            </a:tbl>
          </a:graphicData>
        </a:graphic>
      </p:graphicFrame>
      <p:pic>
        <p:nvPicPr>
          <p:cNvPr id="1335" name="Picture 3" descr="Description: Standard_USAID_Identity_CMYK"/>
          <p:cNvPicPr/>
          <p:nvPr/>
        </p:nvPicPr>
        <p:blipFill>
          <a:blip r:embed="rId1"/>
          <a:srcRect l="0" t="0" r="45082" b="0"/>
          <a:stretch/>
        </p:blipFill>
        <p:spPr>
          <a:xfrm>
            <a:off x="304920" y="5867280"/>
            <a:ext cx="1904760" cy="712800"/>
          </a:xfrm>
          <a:prstGeom prst="rect">
            <a:avLst/>
          </a:prstGeom>
          <a:ln w="0">
            <a:noFill/>
          </a:ln>
        </p:spPr>
      </p:pic>
      <p:pic>
        <p:nvPicPr>
          <p:cNvPr id="1336" name="Picture 2" descr="C:\Users\jkumwenda\Documents\WORK - ACE\11. RAB\FtF Logo.gif"/>
          <p:cNvPicPr/>
          <p:nvPr/>
        </p:nvPicPr>
        <p:blipFill>
          <a:blip r:embed="rId2"/>
          <a:stretch/>
        </p:blipFill>
        <p:spPr>
          <a:xfrm>
            <a:off x="7086600" y="5996160"/>
            <a:ext cx="1828800" cy="62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1944360" y="623880"/>
            <a:ext cx="6589800" cy="9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alibri"/>
                <a:ea typeface="Calibri"/>
              </a:rPr>
              <a:t>Lessons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38" name=""/>
          <p:cNvSpPr txBox="1"/>
          <p:nvPr/>
        </p:nvSpPr>
        <p:spPr>
          <a:xfrm>
            <a:off x="1942920" y="2133360"/>
            <a:ext cx="659124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  <a:ea typeface="Calibri"/>
              </a:rPr>
              <a:t>Despite the message of aggregation and marketing, farmers still prefers CoD mode of trade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  <a:ea typeface="Calibri"/>
              </a:rPr>
              <a:t>Group marketing is being affected by past experiences and lack of trust…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  <a:ea typeface="Calibri"/>
              </a:rPr>
              <a:t>Access to structured market is depended on the volume of production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84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alibri"/>
                <a:ea typeface="Calibri"/>
              </a:rPr>
              <a:t>Challenges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40" name=""/>
          <p:cNvSpPr txBox="1"/>
          <p:nvPr/>
        </p:nvSpPr>
        <p:spPr>
          <a:xfrm>
            <a:off x="1942920" y="1599840"/>
            <a:ext cx="659124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  <a:ea typeface="Calibri"/>
              </a:rPr>
              <a:t>Low prices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  <a:ea typeface="Calibri"/>
              </a:rPr>
              <a:t>Low production- not able to participate in competitive and structured market effectively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  <a:ea typeface="Calibri"/>
              </a:rPr>
              <a:t>Poor quality seed of groundnuts reduced the profitability 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  <a:ea typeface="Calibri"/>
              </a:rPr>
              <a:t>Weak farmer groups- not able to participate in the marketing of commodities effectively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  <a:ea typeface="Calibri"/>
              </a:rPr>
              <a:t> </a:t>
            </a:r>
            <a:r>
              <a:rPr b="0" lang="en-US" sz="2400" spc="-1" strike="noStrike">
                <a:solidFill>
                  <a:srgbClr val="404040"/>
                </a:solidFill>
                <a:latin typeface="Calibri"/>
                <a:ea typeface="Calibri"/>
              </a:rPr>
              <a:t>Aggregation was affected by past experiences and lack of trust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341" name="Picture 3" descr="Description: Standard_USAID_Identity_CMYK"/>
          <p:cNvPicPr/>
          <p:nvPr/>
        </p:nvPicPr>
        <p:blipFill>
          <a:blip r:embed="rId1"/>
          <a:srcRect l="0" t="0" r="45082" b="0"/>
          <a:stretch/>
        </p:blipFill>
        <p:spPr>
          <a:xfrm>
            <a:off x="304920" y="5867280"/>
            <a:ext cx="1904760" cy="712800"/>
          </a:xfrm>
          <a:prstGeom prst="rect">
            <a:avLst/>
          </a:prstGeom>
          <a:ln w="0">
            <a:noFill/>
          </a:ln>
        </p:spPr>
      </p:pic>
      <p:pic>
        <p:nvPicPr>
          <p:cNvPr id="1342" name="Picture 2" descr="C:\Users\jkumwenda\Documents\WORK - ACE\11. RAB\FtF Logo.gif"/>
          <p:cNvPicPr/>
          <p:nvPr/>
        </p:nvPicPr>
        <p:blipFill>
          <a:blip r:embed="rId2"/>
          <a:stretch/>
        </p:blipFill>
        <p:spPr>
          <a:xfrm>
            <a:off x="7086600" y="5932440"/>
            <a:ext cx="1828800" cy="62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"/>
          <p:cNvSpPr txBox="1"/>
          <p:nvPr/>
        </p:nvSpPr>
        <p:spPr>
          <a:xfrm>
            <a:off x="1523520" y="2133360"/>
            <a:ext cx="678204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404040"/>
                </a:solidFill>
                <a:latin typeface="Century Gothic"/>
              </a:rPr>
              <a:t>Thanks for your attention!...</a:t>
            </a:r>
            <a:endParaRPr b="0" lang="en-US" sz="48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344" name="Picture 3" descr="Description: Standard_USAID_Identity_CMYK"/>
          <p:cNvPicPr/>
          <p:nvPr/>
        </p:nvPicPr>
        <p:blipFill>
          <a:blip r:embed="rId1"/>
          <a:srcRect l="0" t="0" r="45082" b="0"/>
          <a:stretch/>
        </p:blipFill>
        <p:spPr>
          <a:xfrm>
            <a:off x="304920" y="5867280"/>
            <a:ext cx="1904760" cy="712800"/>
          </a:xfrm>
          <a:prstGeom prst="rect">
            <a:avLst/>
          </a:prstGeom>
          <a:ln w="0">
            <a:noFill/>
          </a:ln>
        </p:spPr>
      </p:pic>
      <p:pic>
        <p:nvPicPr>
          <p:cNvPr id="1345" name="Picture 2" descr="C:\Users\jkumwenda\Documents\WORK - ACE\11. RAB\FtF Logo.gif"/>
          <p:cNvPicPr/>
          <p:nvPr/>
        </p:nvPicPr>
        <p:blipFill>
          <a:blip r:embed="rId2"/>
          <a:stretch/>
        </p:blipFill>
        <p:spPr>
          <a:xfrm>
            <a:off x="7162920" y="5940360"/>
            <a:ext cx="1828800" cy="62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alibri"/>
                <a:ea typeface="Calibri"/>
              </a:rPr>
              <a:t>Presentation outline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66" name=""/>
          <p:cNvSpPr txBox="1"/>
          <p:nvPr/>
        </p:nvSpPr>
        <p:spPr>
          <a:xfrm>
            <a:off x="1942920" y="1599840"/>
            <a:ext cx="659124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  <a:ea typeface="Calibri"/>
              </a:rPr>
              <a:t>Introduction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  <a:ea typeface="Calibri"/>
              </a:rPr>
              <a:t>Progress of Achievements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700" spc="-1" strike="noStrike">
                <a:solidFill>
                  <a:srgbClr val="404040"/>
                </a:solidFill>
                <a:latin typeface="Calibri"/>
                <a:ea typeface="Calibri"/>
              </a:rPr>
              <a:t>Progress of G/nuts and Soya value chains</a:t>
            </a: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700" spc="-1" strike="noStrike">
                <a:solidFill>
                  <a:srgbClr val="404040"/>
                </a:solidFill>
                <a:latin typeface="Calibri"/>
                <a:ea typeface="Calibri"/>
              </a:rPr>
              <a:t>Costs and returns structures of G/nuts &amp; Soy beans value chain</a:t>
            </a: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700" spc="-1" strike="noStrike">
                <a:solidFill>
                  <a:srgbClr val="404040"/>
                </a:solidFill>
                <a:latin typeface="Calibri"/>
                <a:ea typeface="Calibri"/>
              </a:rPr>
              <a:t>Sensitivity Analysis of Soy beans</a:t>
            </a: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700" spc="-1" strike="noStrike">
                <a:solidFill>
                  <a:srgbClr val="404040"/>
                </a:solidFill>
                <a:latin typeface="Calibri"/>
                <a:ea typeface="Calibri"/>
              </a:rPr>
              <a:t> </a:t>
            </a:r>
            <a:r>
              <a:rPr b="0" lang="en-US" sz="1700" spc="-1" strike="noStrike">
                <a:solidFill>
                  <a:srgbClr val="404040"/>
                </a:solidFill>
                <a:latin typeface="Calibri"/>
                <a:ea typeface="Calibri"/>
              </a:rPr>
              <a:t>Progress of seed loan management</a:t>
            </a: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700" spc="-1" strike="noStrike">
                <a:solidFill>
                  <a:srgbClr val="404040"/>
                </a:solidFill>
                <a:latin typeface="Calibri"/>
                <a:ea typeface="Calibri"/>
              </a:rPr>
              <a:t>Progress of aggregation and marketing</a:t>
            </a: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  <a:ea typeface="Calibri"/>
              </a:rPr>
              <a:t>Value created by the 2 chains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  <a:ea typeface="Calibri"/>
              </a:rPr>
              <a:t>Lessons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  <a:ea typeface="Calibri"/>
              </a:rPr>
              <a:t>Challenges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267" name="Picture 2" descr="C:\Users\jkumwenda\Documents\WORK - ACE\11. RAB\FtF Logo.gif"/>
          <p:cNvPicPr/>
          <p:nvPr/>
        </p:nvPicPr>
        <p:blipFill>
          <a:blip r:embed="rId1"/>
          <a:stretch/>
        </p:blipFill>
        <p:spPr>
          <a:xfrm>
            <a:off x="7010280" y="5948280"/>
            <a:ext cx="1828800" cy="620640"/>
          </a:xfrm>
          <a:prstGeom prst="rect">
            <a:avLst/>
          </a:prstGeom>
          <a:ln w="0">
            <a:noFill/>
          </a:ln>
        </p:spPr>
      </p:pic>
      <p:pic>
        <p:nvPicPr>
          <p:cNvPr id="1268" name="Picture 4" descr="Description: Standard_USAID_Identity_CMYK"/>
          <p:cNvPicPr/>
          <p:nvPr/>
        </p:nvPicPr>
        <p:blipFill>
          <a:blip r:embed="rId2"/>
          <a:srcRect l="0" t="0" r="45082" b="0"/>
          <a:stretch/>
        </p:blipFill>
        <p:spPr>
          <a:xfrm>
            <a:off x="304920" y="5867280"/>
            <a:ext cx="190476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PlaceHolder 1"/>
          <p:cNvSpPr>
            <a:spLocks noGrp="1"/>
          </p:cNvSpPr>
          <p:nvPr>
            <p:ph type="title"/>
          </p:nvPr>
        </p:nvSpPr>
        <p:spPr>
          <a:xfrm>
            <a:off x="1600200" y="33120"/>
            <a:ext cx="739152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262626"/>
                </a:solidFill>
                <a:latin typeface="Calibri"/>
                <a:ea typeface="Calibri"/>
              </a:rPr>
              <a:t>Introduction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70" name=""/>
          <p:cNvSpPr txBox="1"/>
          <p:nvPr/>
        </p:nvSpPr>
        <p:spPr>
          <a:xfrm>
            <a:off x="152280" y="914040"/>
            <a:ext cx="883944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-2840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284040" indent="-284040">
              <a:lnSpc>
                <a:spcPct val="10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libri"/>
                <a:ea typeface="Calibri"/>
              </a:rPr>
              <a:t>The strategic objective was to improve the competitiveness of soya and groundnuts through;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lvl="1" marL="684360" indent="-284400">
              <a:lnSpc>
                <a:spcPct val="10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800" spc="-1" strike="noStrike">
                <a:solidFill>
                  <a:srgbClr val="404040"/>
                </a:solidFill>
                <a:latin typeface="Calibri"/>
                <a:ea typeface="Calibri"/>
              </a:rPr>
              <a:t> </a:t>
            </a:r>
            <a:r>
              <a:rPr b="0" lang="en-GB" sz="2800" spc="-1" strike="noStrike">
                <a:solidFill>
                  <a:srgbClr val="404040"/>
                </a:solidFill>
                <a:latin typeface="Calibri"/>
                <a:ea typeface="Calibri"/>
              </a:rPr>
              <a:t>increasing access to business development, financial, and extension services; 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lvl="1" marL="684360" indent="-284400">
              <a:lnSpc>
                <a:spcPct val="10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800" spc="-1" strike="noStrike">
                <a:solidFill>
                  <a:srgbClr val="404040"/>
                </a:solidFill>
                <a:latin typeface="Calibri"/>
                <a:ea typeface="Calibri"/>
              </a:rPr>
              <a:t>transforming the relationships between value chain actors; and 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lvl="1" marL="684360" indent="-284400">
              <a:lnSpc>
                <a:spcPct val="10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800" spc="-1" strike="noStrike">
                <a:solidFill>
                  <a:srgbClr val="404040"/>
                </a:solidFill>
                <a:latin typeface="Calibri"/>
                <a:ea typeface="Calibri"/>
              </a:rPr>
              <a:t>developing market linkages. 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284040" indent="-284040">
              <a:lnSpc>
                <a:spcPct val="10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libri"/>
                <a:ea typeface="Calibri"/>
              </a:rPr>
              <a:t>Working in 5 districts (Mchinji, Lilongwe, Dedza, Ntcheu, and Mangochi) covering 15 EPAs, targeted 15,051 farmers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284040" indent="-284040">
              <a:lnSpc>
                <a:spcPct val="10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libri"/>
                <a:ea typeface="Calibri"/>
              </a:rPr>
              <a:t> 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271" name="Picture 2" descr="C:\Users\jkumwenda\Documents\WORK - ACE\11. RAB\FtF Logo.gif"/>
          <p:cNvPicPr/>
          <p:nvPr/>
        </p:nvPicPr>
        <p:blipFill>
          <a:blip r:embed="rId1"/>
          <a:stretch/>
        </p:blipFill>
        <p:spPr>
          <a:xfrm>
            <a:off x="7086600" y="5791320"/>
            <a:ext cx="1828800" cy="620640"/>
          </a:xfrm>
          <a:prstGeom prst="rect">
            <a:avLst/>
          </a:prstGeom>
          <a:ln w="0">
            <a:noFill/>
          </a:ln>
        </p:spPr>
      </p:pic>
      <p:pic>
        <p:nvPicPr>
          <p:cNvPr id="1272" name="Picture 4" descr="Description: Standard_USAID_Identity_CMYK"/>
          <p:cNvPicPr/>
          <p:nvPr/>
        </p:nvPicPr>
        <p:blipFill>
          <a:blip r:embed="rId2"/>
          <a:srcRect l="0" t="0" r="45082" b="0"/>
          <a:stretch/>
        </p:blipFill>
        <p:spPr>
          <a:xfrm>
            <a:off x="304920" y="5867280"/>
            <a:ext cx="190476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Text Box 3"/>
          <p:cNvSpPr/>
          <p:nvPr/>
        </p:nvSpPr>
        <p:spPr>
          <a:xfrm>
            <a:off x="838080" y="2276640"/>
            <a:ext cx="83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Categories of operators - in different chann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Text Box 19"/>
          <p:cNvSpPr/>
          <p:nvPr/>
        </p:nvSpPr>
        <p:spPr>
          <a:xfrm>
            <a:off x="1042920" y="1555920"/>
            <a:ext cx="1136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Seed and Inoculant provi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AutoShape 20"/>
          <p:cNvSpPr/>
          <p:nvPr/>
        </p:nvSpPr>
        <p:spPr>
          <a:xfrm>
            <a:off x="826920" y="1555920"/>
            <a:ext cx="1584360" cy="504720"/>
          </a:xfrm>
          <a:custGeom>
            <a:avLst/>
            <a:gdLst>
              <a:gd name="textAreaLeft" fmla="*/ 0 w 1584360"/>
              <a:gd name="textAreaRight" fmla="*/ 1584720 w 1584360"/>
              <a:gd name="textAreaTop" fmla="*/ 0 h 504720"/>
              <a:gd name="textAreaBottom" fmla="*/ 50508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44" y="0"/>
                </a:lnTo>
                <a:lnTo>
                  <a:pt x="21600" y="10800"/>
                </a:lnTo>
                <a:lnTo>
                  <a:pt x="18444" y="21600"/>
                </a:lnTo>
                <a:lnTo>
                  <a:pt x="0" y="21600"/>
                </a:lnTo>
                <a:lnTo>
                  <a:pt x="3156" y="10800"/>
                </a:lnTo>
                <a:close/>
              </a:path>
            </a:pathLst>
          </a:cu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Text Box 22"/>
          <p:cNvSpPr/>
          <p:nvPr/>
        </p:nvSpPr>
        <p:spPr>
          <a:xfrm>
            <a:off x="2771640" y="1635120"/>
            <a:ext cx="1119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Productio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AutoShape 23"/>
          <p:cNvSpPr/>
          <p:nvPr/>
        </p:nvSpPr>
        <p:spPr>
          <a:xfrm>
            <a:off x="2411280" y="1530360"/>
            <a:ext cx="1584360" cy="523800"/>
          </a:xfrm>
          <a:custGeom>
            <a:avLst/>
            <a:gdLst>
              <a:gd name="textAreaLeft" fmla="*/ 0 w 1584360"/>
              <a:gd name="textAreaRight" fmla="*/ 1584720 w 1584360"/>
              <a:gd name="textAreaTop" fmla="*/ 0 h 523800"/>
              <a:gd name="textAreaBottom" fmla="*/ 523800 h 523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318" y="0"/>
                </a:lnTo>
                <a:lnTo>
                  <a:pt x="21600" y="10800"/>
                </a:lnTo>
                <a:lnTo>
                  <a:pt x="18318" y="21600"/>
                </a:lnTo>
                <a:lnTo>
                  <a:pt x="0" y="21600"/>
                </a:lnTo>
                <a:lnTo>
                  <a:pt x="3282" y="10800"/>
                </a:lnTo>
                <a:close/>
              </a:path>
            </a:pathLst>
          </a:cu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AutoShape 25"/>
          <p:cNvSpPr/>
          <p:nvPr/>
        </p:nvSpPr>
        <p:spPr>
          <a:xfrm>
            <a:off x="3994200" y="1530360"/>
            <a:ext cx="1584360" cy="523800"/>
          </a:xfrm>
          <a:custGeom>
            <a:avLst/>
            <a:gdLst>
              <a:gd name="textAreaLeft" fmla="*/ 0 w 1584360"/>
              <a:gd name="textAreaRight" fmla="*/ 1584720 w 1584360"/>
              <a:gd name="textAreaTop" fmla="*/ 0 h 523800"/>
              <a:gd name="textAreaBottom" fmla="*/ 523800 h 523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318" y="0"/>
                </a:lnTo>
                <a:lnTo>
                  <a:pt x="21600" y="10800"/>
                </a:lnTo>
                <a:lnTo>
                  <a:pt x="18318" y="21600"/>
                </a:lnTo>
                <a:lnTo>
                  <a:pt x="0" y="21600"/>
                </a:lnTo>
                <a:lnTo>
                  <a:pt x="3282" y="10800"/>
                </a:lnTo>
                <a:close/>
              </a:path>
            </a:pathLst>
          </a:cu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Text Box 26"/>
          <p:cNvSpPr/>
          <p:nvPr/>
        </p:nvSpPr>
        <p:spPr>
          <a:xfrm>
            <a:off x="4348080" y="1555920"/>
            <a:ext cx="100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Trad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AutoShape 28"/>
          <p:cNvSpPr/>
          <p:nvPr/>
        </p:nvSpPr>
        <p:spPr>
          <a:xfrm>
            <a:off x="5508720" y="1530360"/>
            <a:ext cx="1584360" cy="523800"/>
          </a:xfrm>
          <a:custGeom>
            <a:avLst/>
            <a:gdLst>
              <a:gd name="textAreaLeft" fmla="*/ 0 w 1584360"/>
              <a:gd name="textAreaRight" fmla="*/ 1584720 w 1584360"/>
              <a:gd name="textAreaTop" fmla="*/ 0 h 523800"/>
              <a:gd name="textAreaBottom" fmla="*/ 523800 h 523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318" y="0"/>
                </a:lnTo>
                <a:lnTo>
                  <a:pt x="21600" y="10800"/>
                </a:lnTo>
                <a:lnTo>
                  <a:pt x="18318" y="21600"/>
                </a:lnTo>
                <a:lnTo>
                  <a:pt x="0" y="21600"/>
                </a:lnTo>
                <a:lnTo>
                  <a:pt x="3282" y="10800"/>
                </a:lnTo>
                <a:close/>
              </a:path>
            </a:pathLst>
          </a:cu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Text Box 29"/>
          <p:cNvSpPr/>
          <p:nvPr/>
        </p:nvSpPr>
        <p:spPr>
          <a:xfrm>
            <a:off x="5867280" y="1587600"/>
            <a:ext cx="1103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Trans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form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Rectangle 43"/>
          <p:cNvSpPr/>
          <p:nvPr/>
        </p:nvSpPr>
        <p:spPr>
          <a:xfrm>
            <a:off x="917640" y="2924280"/>
            <a:ext cx="1258920" cy="576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Text Box 44"/>
          <p:cNvSpPr/>
          <p:nvPr/>
        </p:nvSpPr>
        <p:spPr>
          <a:xfrm>
            <a:off x="936720" y="2976480"/>
            <a:ext cx="1258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See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Produc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Funwe – 119MT Makwach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useco- 21MT Tikolo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ISL-40MT CG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lobal Seeds- 30MT CG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Line 45"/>
          <p:cNvSpPr/>
          <p:nvPr/>
        </p:nvSpPr>
        <p:spPr>
          <a:xfrm>
            <a:off x="2197080" y="3211560"/>
            <a:ext cx="35892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5" name="Group 46"/>
          <p:cNvGrpSpPr/>
          <p:nvPr/>
        </p:nvGrpSpPr>
        <p:grpSpPr>
          <a:xfrm>
            <a:off x="2556000" y="2924280"/>
            <a:ext cx="1762560" cy="2154240"/>
            <a:chOff x="2556000" y="2924280"/>
            <a:chExt cx="1762560" cy="2154240"/>
          </a:xfrm>
        </p:grpSpPr>
        <p:sp>
          <p:nvSpPr>
            <p:cNvPr id="1286" name="Rectangle 47"/>
            <p:cNvSpPr/>
            <p:nvPr/>
          </p:nvSpPr>
          <p:spPr>
            <a:xfrm>
              <a:off x="2556000" y="2924280"/>
              <a:ext cx="1127160" cy="5756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7" name="Text Box 48"/>
            <p:cNvSpPr/>
            <p:nvPr/>
          </p:nvSpPr>
          <p:spPr>
            <a:xfrm>
              <a:off x="2603160" y="3066480"/>
              <a:ext cx="1715400" cy="201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armer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armer group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ssocia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operativ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4,582MT of soy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,380MT of G/nu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8" name="Line 49"/>
            <p:cNvSpPr/>
            <p:nvPr/>
          </p:nvSpPr>
          <p:spPr>
            <a:xfrm>
              <a:off x="3708360" y="3199680"/>
              <a:ext cx="35892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9" name="Group 50"/>
          <p:cNvGrpSpPr/>
          <p:nvPr/>
        </p:nvGrpSpPr>
        <p:grpSpPr>
          <a:xfrm>
            <a:off x="4067280" y="2924280"/>
            <a:ext cx="2022120" cy="2477880"/>
            <a:chOff x="4067280" y="2924280"/>
            <a:chExt cx="2022120" cy="2477880"/>
          </a:xfrm>
        </p:grpSpPr>
        <p:sp>
          <p:nvSpPr>
            <p:cNvPr id="1290" name="Rectangle 51"/>
            <p:cNvSpPr/>
            <p:nvPr/>
          </p:nvSpPr>
          <p:spPr>
            <a:xfrm>
              <a:off x="4067280" y="2924280"/>
              <a:ext cx="1152360" cy="6483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1" name="Text Box 52"/>
            <p:cNvSpPr/>
            <p:nvPr/>
          </p:nvSpPr>
          <p:spPr>
            <a:xfrm>
              <a:off x="4107240" y="3177000"/>
              <a:ext cx="1982160" cy="222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rader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formal trader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ormal trader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oods for Goo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Bonga trader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(ACE Platform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MK110-200/kg Soy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MK270-330/kg G/nu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2" name="Line 53"/>
            <p:cNvSpPr/>
            <p:nvPr/>
          </p:nvSpPr>
          <p:spPr>
            <a:xfrm>
              <a:off x="5219640" y="3226680"/>
              <a:ext cx="35892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3" name="Group 54"/>
          <p:cNvGrpSpPr/>
          <p:nvPr/>
        </p:nvGrpSpPr>
        <p:grpSpPr>
          <a:xfrm>
            <a:off x="5580000" y="2924280"/>
            <a:ext cx="1511280" cy="672480"/>
            <a:chOff x="5580000" y="2924280"/>
            <a:chExt cx="1511280" cy="672480"/>
          </a:xfrm>
        </p:grpSpPr>
        <p:sp>
          <p:nvSpPr>
            <p:cNvPr id="1294" name="Rectangle 55"/>
            <p:cNvSpPr/>
            <p:nvPr/>
          </p:nvSpPr>
          <p:spPr>
            <a:xfrm>
              <a:off x="5580000" y="2924280"/>
              <a:ext cx="1152720" cy="576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5" name="Text Box 56"/>
            <p:cNvSpPr/>
            <p:nvPr/>
          </p:nvSpPr>
          <p:spPr>
            <a:xfrm>
              <a:off x="5580000" y="3076560"/>
              <a:ext cx="1287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mpani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6" name="Line 57"/>
            <p:cNvSpPr/>
            <p:nvPr/>
          </p:nvSpPr>
          <p:spPr>
            <a:xfrm>
              <a:off x="6732720" y="3200040"/>
              <a:ext cx="35856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7" name="Oval 58"/>
          <p:cNvSpPr/>
          <p:nvPr/>
        </p:nvSpPr>
        <p:spPr>
          <a:xfrm>
            <a:off x="7093080" y="2924280"/>
            <a:ext cx="1511280" cy="5760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Text Box 59"/>
          <p:cNvSpPr/>
          <p:nvPr/>
        </p:nvSpPr>
        <p:spPr>
          <a:xfrm>
            <a:off x="7311600" y="2924280"/>
            <a:ext cx="107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Marke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Text Box 65"/>
          <p:cNvSpPr/>
          <p:nvPr/>
        </p:nvSpPr>
        <p:spPr>
          <a:xfrm>
            <a:off x="1547640" y="11160"/>
            <a:ext cx="621684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Calibri"/>
              </a:rPr>
              <a:t>Progress of Achievement</a:t>
            </a:r>
            <a:r>
              <a:rPr b="1" lang="en-GB" sz="36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 Narrow"/>
                <a:ea typeface="Arial"/>
              </a:rPr>
              <a:t>G/nuts and </a:t>
            </a:r>
            <a:r>
              <a:rPr b="1" lang="en-GB" sz="3200" spc="-1" strike="noStrike">
                <a:solidFill>
                  <a:srgbClr val="000000"/>
                </a:solidFill>
                <a:latin typeface="Arial Narrow"/>
                <a:ea typeface="Arial"/>
              </a:rPr>
              <a:t>Soy beans Value Cha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Textfeld 43"/>
          <p:cNvSpPr/>
          <p:nvPr/>
        </p:nvSpPr>
        <p:spPr>
          <a:xfrm>
            <a:off x="7242120" y="1484280"/>
            <a:ext cx="10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800" spc="-1" strike="noStrike">
                <a:solidFill>
                  <a:srgbClr val="40404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800" spc="-1" strike="noStrike">
                <a:solidFill>
                  <a:srgbClr val="404040"/>
                </a:solidFill>
                <a:latin typeface="Arial"/>
              </a:rPr>
              <a:t>Produ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Text Box 59"/>
          <p:cNvSpPr/>
          <p:nvPr/>
        </p:nvSpPr>
        <p:spPr>
          <a:xfrm>
            <a:off x="7301520" y="3173400"/>
            <a:ext cx="98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Segmen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2" name="Picture 30" descr="Description: Standard_USAID_Identity_CMYK"/>
          <p:cNvPicPr/>
          <p:nvPr/>
        </p:nvPicPr>
        <p:blipFill>
          <a:blip r:embed="rId1"/>
          <a:srcRect l="0" t="0" r="45082" b="0"/>
          <a:stretch/>
        </p:blipFill>
        <p:spPr>
          <a:xfrm>
            <a:off x="290520" y="6060960"/>
            <a:ext cx="1905120" cy="711360"/>
          </a:xfrm>
          <a:prstGeom prst="rect">
            <a:avLst/>
          </a:prstGeom>
          <a:ln w="0">
            <a:noFill/>
          </a:ln>
        </p:spPr>
      </p:pic>
      <p:pic>
        <p:nvPicPr>
          <p:cNvPr id="1303" name="Picture 2" descr="C:\Users\jkumwenda\Documents\WORK - ACE\11. RAB\FtF Logo.gif"/>
          <p:cNvPicPr/>
          <p:nvPr/>
        </p:nvPicPr>
        <p:blipFill>
          <a:blip r:embed="rId2"/>
          <a:stretch/>
        </p:blipFill>
        <p:spPr>
          <a:xfrm>
            <a:off x="7086600" y="5791320"/>
            <a:ext cx="1828800" cy="62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262626"/>
                </a:solidFill>
                <a:latin typeface="Calibri"/>
                <a:ea typeface="Calibri"/>
              </a:rPr>
              <a:t>Costs and Returns structure of G/nuts and Soy beans Value Chains</a:t>
            </a:r>
            <a:endParaRPr b="0" lang="en-US" sz="32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05" name=""/>
          <p:cNvSpPr txBox="1"/>
          <p:nvPr/>
        </p:nvSpPr>
        <p:spPr>
          <a:xfrm>
            <a:off x="1942920" y="2133360"/>
            <a:ext cx="659124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graphicFrame>
        <p:nvGraphicFramePr>
          <p:cNvPr id="1306" name=""/>
          <p:cNvGraphicFramePr/>
          <p:nvPr/>
        </p:nvGraphicFramePr>
        <p:xfrm>
          <a:off x="1960560" y="2193840"/>
          <a:ext cx="6573960" cy="4145040"/>
        </p:xfrm>
        <a:graphic>
          <a:graphicData uri="http://schemas.openxmlformats.org/drawingml/2006/table">
            <a:tbl>
              <a:tblPr/>
              <a:tblGrid>
                <a:gridCol w="2306520"/>
                <a:gridCol w="2076480"/>
                <a:gridCol w="2190960"/>
              </a:tblGrid>
              <a:tr h="913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Ite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7871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Soy beans-Makwach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7871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G/nuts- CG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78712"/>
                    </a:solidFill>
                  </a:tcPr>
                </a:tc>
              </a:tr>
              <a:tr h="397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Yiel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d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,468kg/h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d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963.62kg/h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d9cc"/>
                    </a:solidFill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ed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K160/k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ed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K300/k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ede7"/>
                    </a:solidFill>
                  </a:tcPr>
                </a:tc>
              </a:tr>
              <a:tr h="6393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otal variable cos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d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K212,121.00/h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d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K229,360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d9cc"/>
                    </a:solidFill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Gross Inco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ed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K234,880.00/h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ed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K289,086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ede7"/>
                    </a:solidFill>
                  </a:tcPr>
                </a:tc>
              </a:tr>
              <a:tr h="6393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Gross marg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d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K22,75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d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K59,726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d9cc"/>
                    </a:solidFill>
                  </a:tcPr>
                </a:tc>
              </a:tr>
              <a:tr h="397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Break-even Pr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ed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K144.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ed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K238.02/K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ede7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d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d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d9cc"/>
                    </a:solidFill>
                  </a:tcPr>
                </a:tc>
              </a:tr>
            </a:tbl>
          </a:graphicData>
        </a:graphic>
      </p:graphicFrame>
      <p:pic>
        <p:nvPicPr>
          <p:cNvPr id="1307" name="Picture 5" descr="Description: Standard_USAID_Identity_CMYK"/>
          <p:cNvPicPr/>
          <p:nvPr/>
        </p:nvPicPr>
        <p:blipFill>
          <a:blip r:embed="rId1"/>
          <a:srcRect l="0" t="0" r="45082" b="0"/>
          <a:stretch/>
        </p:blipFill>
        <p:spPr>
          <a:xfrm>
            <a:off x="55440" y="6134040"/>
            <a:ext cx="1905120" cy="711360"/>
          </a:xfrm>
          <a:prstGeom prst="rect">
            <a:avLst/>
          </a:prstGeom>
          <a:ln w="0">
            <a:noFill/>
          </a:ln>
        </p:spPr>
      </p:pic>
      <p:pic>
        <p:nvPicPr>
          <p:cNvPr id="1308" name="Picture 2" descr="C:\Users\jkumwenda\Documents\WORK - ACE\11. RAB\FtF Logo.gif"/>
          <p:cNvPicPr/>
          <p:nvPr/>
        </p:nvPicPr>
        <p:blipFill>
          <a:blip r:embed="rId2"/>
          <a:stretch/>
        </p:blipFill>
        <p:spPr>
          <a:xfrm>
            <a:off x="7162920" y="6178680"/>
            <a:ext cx="1828800" cy="62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alibri"/>
                <a:ea typeface="Calibri"/>
              </a:rPr>
              <a:t>Sensitivity Analysis for Soy beans (‘What if’)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graphicFrame>
        <p:nvGraphicFramePr>
          <p:cNvPr id="1310" name=""/>
          <p:cNvGraphicFramePr/>
          <p:nvPr/>
        </p:nvGraphicFramePr>
        <p:xfrm>
          <a:off x="1219320" y="2133720"/>
          <a:ext cx="7467480" cy="2565360"/>
        </p:xfrm>
        <a:graphic>
          <a:graphicData uri="http://schemas.openxmlformats.org/drawingml/2006/table">
            <a:tbl>
              <a:tblPr/>
              <a:tblGrid>
                <a:gridCol w="1079280"/>
                <a:gridCol w="1054080"/>
                <a:gridCol w="1067040"/>
                <a:gridCol w="1066680"/>
                <a:gridCol w="1066680"/>
                <a:gridCol w="1067040"/>
                <a:gridCol w="1066680"/>
              </a:tblGrid>
              <a:tr h="914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Scenar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7871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Yield (Kg/h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7871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Variable cost (MK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7871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Price (MK/Kg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7871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Gross Income (MK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7871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GM (MK/h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7871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BEP (MK/Kg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78712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‘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What If?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d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1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d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12,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d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d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6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d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(52,12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d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b0f0"/>
                          </a:solidFill>
                          <a:latin typeface="Calibri"/>
                          <a:ea typeface="Calibri"/>
                        </a:rPr>
                        <a:t>212.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d9cc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‘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What If?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ed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2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ed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12,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ed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ed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2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ed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107,87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ed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b0f0"/>
                          </a:solidFill>
                          <a:latin typeface="Calibri"/>
                          <a:ea typeface="Calibri"/>
                        </a:rPr>
                        <a:t>106.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ede7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d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d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d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d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d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d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d9cc"/>
                    </a:solidFill>
                  </a:tcPr>
                </a:tc>
              </a:tr>
            </a:tbl>
          </a:graphicData>
        </a:graphic>
      </p:graphicFrame>
      <p:pic>
        <p:nvPicPr>
          <p:cNvPr id="1311" name="Picture 4" descr="Description: Standard_USAID_Identity_CMYK"/>
          <p:cNvPicPr/>
          <p:nvPr/>
        </p:nvPicPr>
        <p:blipFill>
          <a:blip r:embed="rId1"/>
          <a:srcRect l="0" t="0" r="45082" b="0"/>
          <a:stretch/>
        </p:blipFill>
        <p:spPr>
          <a:xfrm>
            <a:off x="304920" y="5867280"/>
            <a:ext cx="1904760" cy="712800"/>
          </a:xfrm>
          <a:prstGeom prst="rect">
            <a:avLst/>
          </a:prstGeom>
          <a:ln w="0">
            <a:noFill/>
          </a:ln>
        </p:spPr>
      </p:pic>
      <p:pic>
        <p:nvPicPr>
          <p:cNvPr id="1312" name="Picture 2" descr="C:\Users\jkumwenda\Documents\WORK - ACE\11. RAB\FtF Logo.gif"/>
          <p:cNvPicPr/>
          <p:nvPr/>
        </p:nvPicPr>
        <p:blipFill>
          <a:blip r:embed="rId2"/>
          <a:stretch/>
        </p:blipFill>
        <p:spPr>
          <a:xfrm>
            <a:off x="7201080" y="6110280"/>
            <a:ext cx="1828800" cy="5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PlaceHolder 1"/>
          <p:cNvSpPr>
            <a:spLocks noGrp="1"/>
          </p:cNvSpPr>
          <p:nvPr>
            <p:ph type="title"/>
          </p:nvPr>
        </p:nvSpPr>
        <p:spPr>
          <a:xfrm>
            <a:off x="1944360" y="623880"/>
            <a:ext cx="6589800" cy="9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alibri"/>
                <a:ea typeface="Calibri"/>
              </a:rPr>
              <a:t>Seed Loan managemen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14" name=""/>
          <p:cNvSpPr txBox="1"/>
          <p:nvPr/>
        </p:nvSpPr>
        <p:spPr>
          <a:xfrm>
            <a:off x="1942920" y="1676160"/>
            <a:ext cx="6591240" cy="42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  <a:ea typeface="Calibri"/>
              </a:rPr>
              <a:t>140MT of Soy and 70MT of CG7 was loaned to farmers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  <a:ea typeface="Calibri"/>
              </a:rPr>
              <a:t>The rate of repayment varied from one partner to the other but the majority of partners used 1:2 system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  <a:ea typeface="Calibri"/>
              </a:rPr>
              <a:t>Repayment rate for FGs ranges from 40% to 100%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  <a:ea typeface="Calibri"/>
              </a:rPr>
              <a:t>The initial plan for the seed loan was to sell the repaid grain and use the proceeds to buy new certified seed?????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  <a:ea typeface="Calibri"/>
              </a:rPr>
              <a:t>However, there is a challenge that the loan amount will be tremendously reduced…………..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315" name="Picture 3" descr="Description: Standard_USAID_Identity_CMYK"/>
          <p:cNvPicPr/>
          <p:nvPr/>
        </p:nvPicPr>
        <p:blipFill>
          <a:blip r:embed="rId1"/>
          <a:srcRect l="0" t="0" r="45082" b="0"/>
          <a:stretch/>
        </p:blipFill>
        <p:spPr>
          <a:xfrm>
            <a:off x="304920" y="5867280"/>
            <a:ext cx="1904760" cy="712800"/>
          </a:xfrm>
          <a:prstGeom prst="rect">
            <a:avLst/>
          </a:prstGeom>
          <a:ln w="0">
            <a:noFill/>
          </a:ln>
        </p:spPr>
      </p:pic>
      <p:pic>
        <p:nvPicPr>
          <p:cNvPr id="1316" name="Picture 2" descr="C:\Users\jkumwenda\Documents\WORK - ACE\11. RAB\FtF Logo.gif"/>
          <p:cNvPicPr/>
          <p:nvPr/>
        </p:nvPicPr>
        <p:blipFill>
          <a:blip r:embed="rId2"/>
          <a:stretch/>
        </p:blipFill>
        <p:spPr>
          <a:xfrm>
            <a:off x="7086600" y="5951520"/>
            <a:ext cx="1828800" cy="62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1523880" y="623520"/>
            <a:ext cx="7391520" cy="84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alibri"/>
                <a:ea typeface="Calibri"/>
              </a:rPr>
              <a:t>Seed Loan managemen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18" name=""/>
          <p:cNvSpPr txBox="1"/>
          <p:nvPr/>
        </p:nvSpPr>
        <p:spPr>
          <a:xfrm>
            <a:off x="1523520" y="1464840"/>
            <a:ext cx="7086600" cy="43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  <a:ea typeface="Calibri"/>
              </a:rPr>
              <a:t>For example, if we assume 1:2 repayment with 80% repayment rate 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  <a:ea typeface="Calibri"/>
              </a:rPr>
              <a:t>In view of this, plans are underway to establish a sustainable seed management system-borrowing from Chithumba model- where repayment is as high as 1:4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319" name="Picture 3" descr="Description: Standard_USAID_Identity_CMYK"/>
          <p:cNvPicPr/>
          <p:nvPr/>
        </p:nvPicPr>
        <p:blipFill>
          <a:blip r:embed="rId1"/>
          <a:srcRect l="0" t="0" r="45082" b="0"/>
          <a:stretch/>
        </p:blipFill>
        <p:spPr>
          <a:xfrm>
            <a:off x="304920" y="5867280"/>
            <a:ext cx="1904760" cy="712800"/>
          </a:xfrm>
          <a:prstGeom prst="rect">
            <a:avLst/>
          </a:prstGeom>
          <a:ln w="0">
            <a:noFill/>
          </a:ln>
        </p:spPr>
      </p:pic>
      <p:pic>
        <p:nvPicPr>
          <p:cNvPr id="1320" name="Picture 2" descr="C:\Users\jkumwenda\Documents\WORK - ACE\11. RAB\FtF Logo.gif"/>
          <p:cNvPicPr/>
          <p:nvPr/>
        </p:nvPicPr>
        <p:blipFill>
          <a:blip r:embed="rId2"/>
          <a:stretch/>
        </p:blipFill>
        <p:spPr>
          <a:xfrm>
            <a:off x="7086600" y="5935680"/>
            <a:ext cx="1828800" cy="620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21" name=""/>
          <p:cNvGraphicFramePr/>
          <p:nvPr/>
        </p:nvGraphicFramePr>
        <p:xfrm>
          <a:off x="1523880" y="2305080"/>
          <a:ext cx="7086600" cy="2114640"/>
        </p:xfrm>
        <a:graphic>
          <a:graphicData uri="http://schemas.openxmlformats.org/drawingml/2006/table">
            <a:tbl>
              <a:tblPr/>
              <a:tblGrid>
                <a:gridCol w="609840"/>
                <a:gridCol w="990360"/>
                <a:gridCol w="1143000"/>
                <a:gridCol w="990720"/>
                <a:gridCol w="838080"/>
                <a:gridCol w="685800"/>
                <a:gridCol w="990720"/>
                <a:gridCol w="838080"/>
              </a:tblGrid>
              <a:tr h="9032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lue cha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7871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Quantity distribu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7871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lue (MK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7871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ected repay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7871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0% repay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7871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rket Price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7871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mount (MK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7871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 of the val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78712"/>
                    </a:solidFill>
                  </a:tcPr>
                </a:tc>
              </a:tr>
              <a:tr h="6048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y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d9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0M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d9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   </a:t>
                      </a:r>
                      <a:r>
                        <a:rPr b="0" lang="en-GB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16,825,2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d9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0M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d9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4M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d9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d9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35,84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d9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600" spc="-1" strike="noStrike">
                          <a:solidFill>
                            <a:srgbClr val="00b0f0"/>
                          </a:solidFill>
                          <a:latin typeface="Calibri"/>
                        </a:rPr>
                        <a:t>3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d9cc"/>
                    </a:solidFill>
                  </a:tcPr>
                </a:tc>
              </a:tr>
              <a:tr h="6066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/nu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ed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0M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ed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   </a:t>
                      </a:r>
                      <a:r>
                        <a:rPr b="0" lang="en-GB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19,568,9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ed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0M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ed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2M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ed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ed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33,6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ed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600" spc="-1" strike="noStrike">
                          <a:solidFill>
                            <a:srgbClr val="00b0f0"/>
                          </a:solidFill>
                          <a:latin typeface="Calibri"/>
                        </a:rPr>
                        <a:t>2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ed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84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alibri"/>
                <a:ea typeface="Calibri"/>
              </a:rPr>
              <a:t>Aggregation and Marketing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23" name=""/>
          <p:cNvSpPr txBox="1"/>
          <p:nvPr/>
        </p:nvSpPr>
        <p:spPr>
          <a:xfrm>
            <a:off x="1942920" y="16761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  <a:ea typeface="Calibri"/>
              </a:rPr>
              <a:t>Trained 27 (8F, 19M)frontline staff (DAES, We-Effect, Dedza CADECOM) on formulation of aggregation &amp; marketing plans 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  <a:ea typeface="Calibri"/>
              </a:rPr>
              <a:t>Trained 274 (</a:t>
            </a:r>
            <a:r>
              <a:rPr b="0" lang="en-GB" sz="2400" spc="-1" strike="noStrike">
                <a:solidFill>
                  <a:srgbClr val="404040"/>
                </a:solidFill>
                <a:latin typeface="Calibri"/>
                <a:ea typeface="Calibri"/>
              </a:rPr>
              <a:t>129F, 145M) </a:t>
            </a:r>
            <a:r>
              <a:rPr b="0" lang="en-US" sz="2400" spc="-1" strike="noStrike">
                <a:solidFill>
                  <a:srgbClr val="404040"/>
                </a:solidFill>
                <a:latin typeface="Calibri"/>
                <a:ea typeface="Calibri"/>
              </a:rPr>
              <a:t>farmers on formulation of aggregation &amp; marketing plans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  <a:ea typeface="Calibri"/>
              </a:rPr>
              <a:t>Over 350MT of soya was aggregated 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  <a:ea typeface="Calibri"/>
              </a:rPr>
              <a:t>The market prices are volatile……….fluctuating almost everyday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324" name="Picture 3" descr="Description: Standard_USAID_Identity_CMYK"/>
          <p:cNvPicPr/>
          <p:nvPr/>
        </p:nvPicPr>
        <p:blipFill>
          <a:blip r:embed="rId1"/>
          <a:srcRect l="0" t="0" r="45082" b="0"/>
          <a:stretch/>
        </p:blipFill>
        <p:spPr>
          <a:xfrm>
            <a:off x="304920" y="5867280"/>
            <a:ext cx="1904760" cy="712800"/>
          </a:xfrm>
          <a:prstGeom prst="rect">
            <a:avLst/>
          </a:prstGeom>
          <a:ln w="0">
            <a:noFill/>
          </a:ln>
        </p:spPr>
      </p:pic>
      <p:pic>
        <p:nvPicPr>
          <p:cNvPr id="1325" name="Picture 2" descr="C:\Users\jkumwenda\Documents\WORK - ACE\11. RAB\FtF Logo.gif"/>
          <p:cNvPicPr/>
          <p:nvPr/>
        </p:nvPicPr>
        <p:blipFill>
          <a:blip r:embed="rId2"/>
          <a:stretch/>
        </p:blipFill>
        <p:spPr>
          <a:xfrm>
            <a:off x="7162920" y="5935680"/>
            <a:ext cx="1828800" cy="62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15T17:20:52Z</dcterms:created>
  <dc:creator>ajuba</dc:creator>
  <dc:description/>
  <dc:language>en-US</dc:language>
  <cp:lastModifiedBy>Kabuli, Pelius (IITA)</cp:lastModifiedBy>
  <dcterms:modified xsi:type="dcterms:W3CDTF">2017-06-29T08:12:21Z</dcterms:modified>
  <cp:revision>163</cp:revision>
  <dc:subject/>
  <dc:title>Slide 1</dc:title>
</cp:coreProperties>
</file>